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F4B4-22DD-49D3-A74F-4D1339C8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88BF-7152-40F5-99FE-EB83572A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956-FD04-4D19-8551-CCC23A30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B92-B74F-4749-AFAC-C8B98CA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4AC-476F-4806-93F9-15419FCA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2C4-C2CE-415E-BD55-F26F4BC5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02C-9415-4E82-AE08-7F85E3DB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0AC-56C2-4B30-99DF-C5B5C1C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455-D96D-48C0-B2E4-9BEB15E9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C5C-692C-4B5B-A2AA-9B11B63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7CCA-30B2-44E3-81CB-4FCECF3E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B0FF-16BF-4EB3-B7BA-38CF803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BC9-FA7B-4949-8C6B-8E2137D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3CB-7213-4C60-9E4E-2F6E9F1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706-4D42-497C-8A7B-B56F61D1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2EB-BA3D-40A3-80DE-63B8E6E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6D6D-21B1-4D06-9905-1C1027EE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67B9-2D15-4F9F-9EFF-8813AE97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D442-DAE5-488A-A7F6-98165330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B8A5-CB77-4B25-BB80-BD62E21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886F-6DDD-4ED4-B094-E8329642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1767-C523-4FCE-B774-2E1F38D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120E-B8B8-4A91-9AC4-1D142F1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7E84-AE61-4804-9A06-1C6B842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86C-941E-4922-B626-69045BF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DD5E-1EDA-4850-9415-DBB367EA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A728-DF63-43B8-A8C2-CAFD2E0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EECF-01FF-4571-A097-F2A9A40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8DCF-8ED5-41D7-9D66-780B1F1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3AF6-A3B6-4922-829D-BA45A63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67CF-1188-47A3-8E44-A1F05EA1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5B5C-83E6-4DB8-929E-6798EE1A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C661-6BFA-4F79-B8BF-972F45CE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B66F-3A58-45E3-82B8-B87FD192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86A7-9813-4EF9-B852-A8B4FDD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F6A-A6C5-4922-90E5-405E720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04A7-02F2-42A8-8738-D4A7BA7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AA7C-F89F-40F6-A061-802B721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9AFF-1C68-4B07-9DE9-EDD5F08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4755-3D17-4AD6-A6F6-112620C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3EA2-CE14-40CC-96D4-1D8ED0B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DB59-7795-4274-B93E-E4A9E53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6FE1-28B2-4712-B705-5A9A7D22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9E30-50DB-4A2C-9446-E72D2526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6BDF-AE94-4E4C-ABFD-294926C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FD9-E5DC-4FB8-995D-C95E9581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662-D6D8-4FBC-A441-235D4DE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BD2-4A31-4F7B-B984-E284FBB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E10-7CA4-40A8-823E-260B5EE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EE9-7F04-446B-905B-97E2BC2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694-B269-465D-B78D-45125D6EC15A}" type="slidenum"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2D04-4217-46B6-9A40-67F00B4C7D18}" type="slidenum"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93E4-EF99-4410-82E4-317A49A0A609}" type="slidenum"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AE2F-9CFF-49D5-AF0A-E16D147DB5DE}" type="slidenum"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11&amp;01&amp;11B%20Gene%20Regulation%20in%20Eukaryot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essentials_3/discvids/_html/index.htm?info_text=cc5_cl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trol of Gene Expr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types of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ke different proteins because different combinations of genes are active in each typ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403200" y="2932200"/>
            <a:ext cx="8361360" cy="3511080"/>
            <a:chOff x="403200" y="2932200"/>
            <a:chExt cx="8361360" cy="3511080"/>
          </a:xfrm>
        </p:grpSpPr>
        <p:grpSp>
          <p:nvGrpSpPr>
            <p:cNvPr id="279" name="Group 5"/>
            <p:cNvGrpSpPr/>
            <p:nvPr/>
          </p:nvGrpSpPr>
          <p:grpSpPr>
            <a:xfrm>
              <a:off x="1181160" y="2932200"/>
              <a:ext cx="7583400" cy="3511080"/>
              <a:chOff x="1181160" y="2932200"/>
              <a:chExt cx="7583400" cy="3511080"/>
            </a:xfrm>
          </p:grpSpPr>
          <p:pic>
            <p:nvPicPr>
              <p:cNvPr id="280" name="Picture 6" descr="_x000b_11_02_U.jpg                                                    00019A29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1181160" y="2932200"/>
                <a:ext cx="7583400" cy="33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7"/>
              <p:cNvSpPr/>
              <p:nvPr/>
            </p:nvSpPr>
            <p:spPr>
              <a:xfrm>
                <a:off x="1453320" y="6136200"/>
                <a:ext cx="215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uscle ce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8"/>
              <p:cNvSpPr/>
              <p:nvPr/>
            </p:nvSpPr>
            <p:spPr>
              <a:xfrm>
                <a:off x="3904560" y="6136200"/>
                <a:ext cx="213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ncreas cel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9"/>
              <p:cNvSpPr/>
              <p:nvPr/>
            </p:nvSpPr>
            <p:spPr>
              <a:xfrm>
                <a:off x="6318720" y="6136200"/>
                <a:ext cx="218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lood cel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10"/>
            <p:cNvSpPr/>
            <p:nvPr/>
          </p:nvSpPr>
          <p:spPr>
            <a:xfrm>
              <a:off x="403200" y="61387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42720" y="790560"/>
            <a:ext cx="7443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nerve cell and a skin cell in your body have the same genes, how can the cells be so differ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771480" y="447840"/>
            <a:ext cx="8067600" cy="27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3 Differentiated cells may retain all of their genetic 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differentiate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60240" indent="-4582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tain a complete set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560240" indent="-4582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only a small % of those genes are expres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4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nstantia"/>
              </a:rPr>
              <a:t>How is it that when they transferred cells from a carrot to culture medium, a single cell could begin dividing and eventually grow into an adult plant, a genetic replication of the parent plant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7"/>
          <p:cNvGrpSpPr/>
          <p:nvPr/>
        </p:nvGrpSpPr>
        <p:grpSpPr>
          <a:xfrm>
            <a:off x="2229840" y="3467160"/>
            <a:ext cx="4847040" cy="2877840"/>
            <a:chOff x="2229840" y="3467160"/>
            <a:chExt cx="4847040" cy="2877840"/>
          </a:xfrm>
        </p:grpSpPr>
        <p:grpSp>
          <p:nvGrpSpPr>
            <p:cNvPr id="290" name="Group 15"/>
            <p:cNvGrpSpPr/>
            <p:nvPr/>
          </p:nvGrpSpPr>
          <p:grpSpPr>
            <a:xfrm>
              <a:off x="3301200" y="3467160"/>
              <a:ext cx="3775680" cy="2871720"/>
              <a:chOff x="3301200" y="3467160"/>
              <a:chExt cx="3775680" cy="2871720"/>
            </a:xfrm>
          </p:grpSpPr>
          <p:pic>
            <p:nvPicPr>
              <p:cNvPr id="291" name="Picture 6" descr="_x000b_11_03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01200" y="3467160"/>
                <a:ext cx="3775680" cy="26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>
                <a:off x="3585240" y="4203000"/>
                <a:ext cx="691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ot of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rrot pl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"/>
              <p:cNvSpPr/>
              <p:nvPr/>
            </p:nvSpPr>
            <p:spPr>
              <a:xfrm flipH="1">
                <a:off x="3701160" y="4497120"/>
                <a:ext cx="190080" cy="29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"/>
              <p:cNvSpPr/>
              <p:nvPr/>
            </p:nvSpPr>
            <p:spPr>
              <a:xfrm>
                <a:off x="3573720" y="6001560"/>
                <a:ext cx="102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ot cells cultured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nutrient mediu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10"/>
              <p:cNvSpPr/>
              <p:nvPr/>
            </p:nvSpPr>
            <p:spPr>
              <a:xfrm>
                <a:off x="4672080" y="6001560"/>
                <a:ext cx="72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cultu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1"/>
              <p:cNvSpPr/>
              <p:nvPr/>
            </p:nvSpPr>
            <p:spPr>
              <a:xfrm>
                <a:off x="5551560" y="6120000"/>
                <a:ext cx="52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nt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2"/>
              <p:cNvSpPr/>
              <p:nvPr/>
            </p:nvSpPr>
            <p:spPr>
              <a:xfrm>
                <a:off x="6174720" y="6121800"/>
                <a:ext cx="67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ult Pl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3"/>
              <p:cNvSpPr/>
              <p:nvPr/>
            </p:nvSpPr>
            <p:spPr>
              <a:xfrm>
                <a:off x="4654440" y="4905000"/>
                <a:ext cx="646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ngle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4"/>
              <p:cNvSpPr/>
              <p:nvPr/>
            </p:nvSpPr>
            <p:spPr>
              <a:xfrm flipH="1">
                <a:off x="4641480" y="5081040"/>
                <a:ext cx="98640" cy="18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16"/>
            <p:cNvSpPr/>
            <p:nvPr/>
          </p:nvSpPr>
          <p:spPr>
            <a:xfrm>
              <a:off x="2229840" y="6068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42480" y="1934640"/>
            <a:ext cx="77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act that a mature plant cell can dedifferentiate (reverse its differentiation) and then give rise to all the different kinds of specialized cells of a new plant shows that differentiation does not necessarily involve irreversible changes in the D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Regene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regrowth of lost body par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819000" indent="-27288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a salamander loses a leg, for example, certain cells in the leg stump </a:t>
            </a:r>
            <a:r>
              <a:rPr b="1" i="1" lang="en-US" sz="2000" spc="-1" strike="noStrike">
                <a:solidFill>
                  <a:srgbClr val="7030a0"/>
                </a:solidFill>
                <a:latin typeface="Constantia"/>
              </a:rPr>
              <a:t>dedifferentia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divide, and then </a:t>
            </a:r>
            <a:r>
              <a:rPr b="1" i="1" lang="en-US" sz="2000" spc="-1" strike="noStrike">
                <a:solidFill>
                  <a:srgbClr val="7030a0"/>
                </a:solidFill>
                <a:latin typeface="Constantia"/>
              </a:rPr>
              <a:t>redifferentia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giving rise to a new leg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nimals can regenerate lost parts, especially among the invertebrates, and in a few relatively simple animals, isolated differentiated cells can dedifferentiate and then develop into an organis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4 DNA packing in eukaryotic chromosomes helps regulate gene expres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hromosome contains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nd around clusters of histone proteins, forming a string of beadlike nucleos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7"/>
          <p:cNvGrpSpPr/>
          <p:nvPr/>
        </p:nvGrpSpPr>
        <p:grpSpPr>
          <a:xfrm>
            <a:off x="2409840" y="3456000"/>
            <a:ext cx="3207240" cy="2988000"/>
            <a:chOff x="2409840" y="3456000"/>
            <a:chExt cx="3207240" cy="2988000"/>
          </a:xfrm>
        </p:grpSpPr>
        <p:grpSp>
          <p:nvGrpSpPr>
            <p:cNvPr id="308" name="Group 45"/>
            <p:cNvGrpSpPr/>
            <p:nvPr/>
          </p:nvGrpSpPr>
          <p:grpSpPr>
            <a:xfrm>
              <a:off x="3450960" y="3456000"/>
              <a:ext cx="2166120" cy="2969280"/>
              <a:chOff x="3450960" y="3456000"/>
              <a:chExt cx="2166120" cy="2969280"/>
            </a:xfrm>
          </p:grpSpPr>
          <p:pic>
            <p:nvPicPr>
              <p:cNvPr id="309" name="Picture 23" descr="_x000b_11_04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554280" y="3456000"/>
                <a:ext cx="1924200" cy="28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Text Box 24"/>
              <p:cNvSpPr/>
              <p:nvPr/>
            </p:nvSpPr>
            <p:spPr>
              <a:xfrm>
                <a:off x="3689280" y="3521160"/>
                <a:ext cx="6652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NA double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lix (2-nm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25"/>
              <p:cNvSpPr/>
              <p:nvPr/>
            </p:nvSpPr>
            <p:spPr>
              <a:xfrm>
                <a:off x="4284720" y="3560760"/>
                <a:ext cx="52200" cy="322200"/>
              </a:xfrm>
              <a:custGeom>
                <a:avLst/>
                <a:gdLst>
                  <a:gd name="textAreaLeft" fmla="*/ 33480 w 52200"/>
                  <a:gd name="textAreaRight" fmla="*/ 52560 w 52200"/>
                  <a:gd name="textAreaTop" fmla="*/ 3240 h 322200"/>
                  <a:gd name="textAreaBottom" fmla="*/ 318960 h 32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85"/>
                      <a:pt x="10800" y="770"/>
                    </a:cubicBezTo>
                    <a:lnTo>
                      <a:pt x="10800" y="10188"/>
                    </a:lnTo>
                    <a:cubicBezTo>
                      <a:pt x="10800" y="10573"/>
                      <a:pt x="5400" y="10958"/>
                      <a:pt x="0" y="10958"/>
                    </a:cubicBezTo>
                    <a:cubicBezTo>
                      <a:pt x="5400" y="10958"/>
                      <a:pt x="10800" y="11343"/>
                      <a:pt x="10800" y="11728"/>
                    </a:cubicBezTo>
                    <a:lnTo>
                      <a:pt x="10800" y="20830"/>
                    </a:lnTo>
                    <a:cubicBezTo>
                      <a:pt x="10800" y="21215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6"/>
              <p:cNvSpPr/>
              <p:nvPr/>
            </p:nvSpPr>
            <p:spPr>
              <a:xfrm>
                <a:off x="4436280" y="3935520"/>
                <a:ext cx="523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isto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7"/>
              <p:cNvSpPr/>
              <p:nvPr/>
            </p:nvSpPr>
            <p:spPr>
              <a:xfrm>
                <a:off x="4664160" y="4102200"/>
                <a:ext cx="26496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8"/>
              <p:cNvSpPr/>
              <p:nvPr/>
            </p:nvSpPr>
            <p:spPr>
              <a:xfrm>
                <a:off x="4667400" y="4106880"/>
                <a:ext cx="69840" cy="206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9"/>
              <p:cNvSpPr/>
              <p:nvPr/>
            </p:nvSpPr>
            <p:spPr>
              <a:xfrm>
                <a:off x="3762360" y="4213080"/>
                <a:ext cx="614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4344480" y="41623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nk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31"/>
              <p:cNvSpPr/>
              <p:nvPr/>
            </p:nvSpPr>
            <p:spPr>
              <a:xfrm>
                <a:off x="4543560" y="4317840"/>
                <a:ext cx="0" cy="21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32"/>
              <p:cNvSpPr/>
              <p:nvPr/>
            </p:nvSpPr>
            <p:spPr>
              <a:xfrm>
                <a:off x="3862800" y="4172040"/>
                <a:ext cx="58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eads on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 string”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33"/>
              <p:cNvSpPr/>
              <p:nvPr/>
            </p:nvSpPr>
            <p:spPr>
              <a:xfrm rot="3793800">
                <a:off x="4547880" y="4623840"/>
                <a:ext cx="65160" cy="157320"/>
              </a:xfrm>
              <a:custGeom>
                <a:avLst/>
                <a:gdLst>
                  <a:gd name="textAreaLeft" fmla="*/ 0 w 65160"/>
                  <a:gd name="textAreaRight" fmla="*/ 23400 w 65160"/>
                  <a:gd name="textAreaTop" fmla="*/ 4320 h 157320"/>
                  <a:gd name="textAreaBottom" fmla="*/ 153000 h 15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73"/>
                      <a:pt x="10800" y="1946"/>
                    </a:cubicBezTo>
                    <a:lnTo>
                      <a:pt x="10800" y="8854"/>
                    </a:lnTo>
                    <a:cubicBezTo>
                      <a:pt x="10800" y="9827"/>
                      <a:pt x="16200" y="10800"/>
                      <a:pt x="21600" y="10800"/>
                    </a:cubicBezTo>
                    <a:cubicBezTo>
                      <a:pt x="16200" y="10800"/>
                      <a:pt x="10800" y="11773"/>
                      <a:pt x="10800" y="12746"/>
                    </a:cubicBezTo>
                    <a:lnTo>
                      <a:pt x="10800" y="19654"/>
                    </a:lnTo>
                    <a:cubicBezTo>
                      <a:pt x="10800" y="20627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34"/>
              <p:cNvSpPr/>
              <p:nvPr/>
            </p:nvSpPr>
            <p:spPr>
              <a:xfrm>
                <a:off x="4546440" y="46753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ucleosome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1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5"/>
              <p:cNvSpPr/>
              <p:nvPr/>
            </p:nvSpPr>
            <p:spPr>
              <a:xfrm>
                <a:off x="3450960" y="544680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ight helical fiber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3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6"/>
              <p:cNvSpPr/>
              <p:nvPr/>
            </p:nvSpPr>
            <p:spPr>
              <a:xfrm flipH="1">
                <a:off x="4049640" y="5396040"/>
                <a:ext cx="279360" cy="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37"/>
              <p:cNvSpPr/>
              <p:nvPr/>
            </p:nvSpPr>
            <p:spPr>
              <a:xfrm>
                <a:off x="4262400" y="5448240"/>
                <a:ext cx="90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uperc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30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H="1">
                <a:off x="4572000" y="5398920"/>
                <a:ext cx="401760" cy="8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39"/>
              <p:cNvSpPr/>
              <p:nvPr/>
            </p:nvSpPr>
            <p:spPr>
              <a:xfrm>
                <a:off x="4032720" y="6224760"/>
                <a:ext cx="1146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taphase chromosom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40"/>
              <p:cNvSpPr/>
              <p:nvPr/>
            </p:nvSpPr>
            <p:spPr>
              <a:xfrm>
                <a:off x="5272200" y="6064200"/>
                <a:ext cx="90360" cy="163440"/>
              </a:xfrm>
              <a:custGeom>
                <a:avLst/>
                <a:gdLst>
                  <a:gd name="textAreaLeft" fmla="*/ 0 w 90360"/>
                  <a:gd name="textAreaRight" fmla="*/ 32760 w 90360"/>
                  <a:gd name="textAreaTop" fmla="*/ 3960 h 163440"/>
                  <a:gd name="textAreaBottom" fmla="*/ 15948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41"/>
              <p:cNvSpPr/>
              <p:nvPr/>
            </p:nvSpPr>
            <p:spPr>
              <a:xfrm>
                <a:off x="5290200" y="5989680"/>
                <a:ext cx="32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3768840" y="4432320"/>
                <a:ext cx="738000" cy="201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68" h="256">
                    <a:moveTo>
                      <a:pt x="768" y="256"/>
                    </a:moveTo>
                    <a:lnTo>
                      <a:pt x="39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 rot="16200000">
                <a:off x="3433320" y="452556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 rot="16200000">
                <a:off x="3714120" y="605268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46"/>
            <p:cNvSpPr/>
            <p:nvPr/>
          </p:nvSpPr>
          <p:spPr>
            <a:xfrm>
              <a:off x="2409840" y="6167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eaded fi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further wound and fol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packing tends to block gene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esumably by preventing access of transcription proteins to the D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b Activity: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media.pearsoncmg.com/bc/bc_campbell_concepts_5/media/assets/interactivemedia/activityshared/ActivityLoader.html?cmr3e&amp;11&amp;01&amp;11B%20Gene%20Regulation%20in%20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5 In female mammals, one X chromosome is inactive in each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extreme example of DNA packing in interphase cel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X chromosome inactivation in the cells of female mam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1064160" y="3776760"/>
            <a:ext cx="6846480" cy="2743200"/>
            <a:chOff x="1064160" y="3776760"/>
            <a:chExt cx="6846480" cy="2743200"/>
          </a:xfrm>
        </p:grpSpPr>
        <p:grpSp>
          <p:nvGrpSpPr>
            <p:cNvPr id="337" name="Group 24"/>
            <p:cNvGrpSpPr/>
            <p:nvPr/>
          </p:nvGrpSpPr>
          <p:grpSpPr>
            <a:xfrm>
              <a:off x="2061000" y="3776760"/>
              <a:ext cx="5849640" cy="2743200"/>
              <a:chOff x="2061000" y="3776760"/>
              <a:chExt cx="5849640" cy="2743200"/>
            </a:xfrm>
          </p:grpSpPr>
          <p:pic>
            <p:nvPicPr>
              <p:cNvPr id="338" name="Picture 5" descr="_x000b_11_05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061000" y="3776760"/>
                <a:ext cx="584964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6"/>
              <p:cNvSpPr/>
              <p:nvPr/>
            </p:nvSpPr>
            <p:spPr>
              <a:xfrm>
                <a:off x="2232360" y="3992400"/>
                <a:ext cx="82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arly embry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7"/>
              <p:cNvSpPr/>
              <p:nvPr/>
            </p:nvSpPr>
            <p:spPr>
              <a:xfrm>
                <a:off x="2216520" y="4878360"/>
                <a:ext cx="99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chromosom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"/>
              <p:cNvSpPr/>
              <p:nvPr/>
            </p:nvSpPr>
            <p:spPr>
              <a:xfrm>
                <a:off x="2283120" y="583236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ele f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ange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9"/>
              <p:cNvSpPr/>
              <p:nvPr/>
            </p:nvSpPr>
            <p:spPr>
              <a:xfrm>
                <a:off x="2733480" y="6075360"/>
                <a:ext cx="57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ele f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lack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 flipH="1">
                <a:off x="2517840" y="5343480"/>
                <a:ext cx="3236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1"/>
              <p:cNvSpPr/>
              <p:nvPr/>
            </p:nvSpPr>
            <p:spPr>
              <a:xfrm>
                <a:off x="2841840" y="5524560"/>
                <a:ext cx="111240" cy="538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"/>
              <p:cNvSpPr/>
              <p:nvPr/>
            </p:nvSpPr>
            <p:spPr>
              <a:xfrm>
                <a:off x="3333240" y="4416480"/>
                <a:ext cx="86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d random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chromosom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3"/>
              <p:cNvSpPr/>
              <p:nvPr/>
            </p:nvSpPr>
            <p:spPr>
              <a:xfrm>
                <a:off x="4550040" y="3990960"/>
                <a:ext cx="119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wo cell populations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 adul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4"/>
              <p:cNvSpPr/>
              <p:nvPr/>
            </p:nvSpPr>
            <p:spPr>
              <a:xfrm>
                <a:off x="4327920" y="4851360"/>
                <a:ext cx="55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5"/>
              <p:cNvSpPr/>
              <p:nvPr/>
            </p:nvSpPr>
            <p:spPr>
              <a:xfrm>
                <a:off x="4262040" y="502452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6"/>
              <p:cNvSpPr/>
              <p:nvPr/>
            </p:nvSpPr>
            <p:spPr>
              <a:xfrm>
                <a:off x="4262040" y="57294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7"/>
              <p:cNvSpPr/>
              <p:nvPr/>
            </p:nvSpPr>
            <p:spPr>
              <a:xfrm>
                <a:off x="4307040" y="5913360"/>
                <a:ext cx="55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8"/>
              <p:cNvSpPr/>
              <p:nvPr/>
            </p:nvSpPr>
            <p:spPr>
              <a:xfrm>
                <a:off x="5480280" y="47736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ang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5477400" y="5830920"/>
                <a:ext cx="579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lack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0"/>
            <p:cNvSpPr/>
            <p:nvPr/>
          </p:nvSpPr>
          <p:spPr>
            <a:xfrm>
              <a:off x="1064160" y="61642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6 Complex assemblies of proteins control eukaryotic tran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ariety of regulatory proteins interact with DNA and with each o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turn the transcription of eukaryotic genes on or of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ranscription Fac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ion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ist in initiating eukaryotic transcrip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3"/>
          <p:cNvGrpSpPr/>
          <p:nvPr/>
        </p:nvGrpSpPr>
        <p:grpSpPr>
          <a:xfrm>
            <a:off x="2346480" y="2803680"/>
            <a:ext cx="4291920" cy="3635280"/>
            <a:chOff x="2346480" y="2803680"/>
            <a:chExt cx="4291920" cy="3635280"/>
          </a:xfrm>
        </p:grpSpPr>
        <p:grpSp>
          <p:nvGrpSpPr>
            <p:cNvPr id="359" name="Group 21"/>
            <p:cNvGrpSpPr/>
            <p:nvPr/>
          </p:nvGrpSpPr>
          <p:grpSpPr>
            <a:xfrm>
              <a:off x="3260520" y="2803680"/>
              <a:ext cx="3377880" cy="3635280"/>
              <a:chOff x="3260520" y="2803680"/>
              <a:chExt cx="3377880" cy="3635280"/>
            </a:xfrm>
          </p:grpSpPr>
          <p:pic>
            <p:nvPicPr>
              <p:cNvPr id="360" name="Picture 5" descr="_x000b_11_06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260520" y="3129120"/>
                <a:ext cx="3377880" cy="330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1" name="Group 20"/>
              <p:cNvGrpSpPr/>
              <p:nvPr/>
            </p:nvGrpSpPr>
            <p:grpSpPr>
              <a:xfrm>
                <a:off x="3292920" y="2803680"/>
                <a:ext cx="3144960" cy="3560400"/>
                <a:chOff x="3292920" y="2803680"/>
                <a:chExt cx="3144960" cy="3560400"/>
              </a:xfrm>
            </p:grpSpPr>
            <p:sp>
              <p:nvSpPr>
                <p:cNvPr id="362" name="Text Box 6"/>
                <p:cNvSpPr/>
                <p:nvPr/>
              </p:nvSpPr>
              <p:spPr>
                <a:xfrm>
                  <a:off x="3600000" y="2803680"/>
                  <a:ext cx="66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nhancer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7"/>
                <p:cNvSpPr/>
                <p:nvPr/>
              </p:nvSpPr>
              <p:spPr>
                <a:xfrm>
                  <a:off x="5416920" y="2832120"/>
                  <a:ext cx="599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8"/>
                <p:cNvSpPr/>
                <p:nvPr/>
              </p:nvSpPr>
              <p:spPr>
                <a:xfrm>
                  <a:off x="5766480" y="302436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9"/>
                <p:cNvSpPr/>
                <p:nvPr/>
              </p:nvSpPr>
              <p:spPr>
                <a:xfrm>
                  <a:off x="6008760" y="3071880"/>
                  <a:ext cx="4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e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Text Box 10"/>
                <p:cNvSpPr/>
                <p:nvPr/>
              </p:nvSpPr>
              <p:spPr>
                <a:xfrm>
                  <a:off x="3459240" y="3362400"/>
                  <a:ext cx="395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Text Box 11"/>
                <p:cNvSpPr/>
                <p:nvPr/>
              </p:nvSpPr>
              <p:spPr>
                <a:xfrm>
                  <a:off x="4101480" y="3666960"/>
                  <a:ext cx="579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ctivator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12"/>
                <p:cNvSpPr/>
                <p:nvPr/>
              </p:nvSpPr>
              <p:spPr>
                <a:xfrm>
                  <a:off x="4101480" y="4071960"/>
                  <a:ext cx="54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ther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13"/>
                <p:cNvSpPr/>
                <p:nvPr/>
              </p:nvSpPr>
              <p:spPr>
                <a:xfrm>
                  <a:off x="4055040" y="3652920"/>
                  <a:ext cx="77400" cy="733320"/>
                </a:xfrm>
                <a:custGeom>
                  <a:avLst/>
                  <a:gdLst>
                    <a:gd name="textAreaLeft" fmla="*/ 49680 w 77400"/>
                    <a:gd name="textAreaRight" fmla="*/ 77760 w 77400"/>
                    <a:gd name="textAreaTop" fmla="*/ 6480 h 733320"/>
                    <a:gd name="textAreaBottom" fmla="*/ 726840 h 73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314"/>
                        <a:pt x="10800" y="628"/>
                      </a:cubicBezTo>
                      <a:lnTo>
                        <a:pt x="10800" y="10107"/>
                      </a:lnTo>
                      <a:cubicBezTo>
                        <a:pt x="10800" y="10421"/>
                        <a:pt x="5400" y="10735"/>
                        <a:pt x="0" y="10735"/>
                      </a:cubicBezTo>
                      <a:cubicBezTo>
                        <a:pt x="5400" y="10735"/>
                        <a:pt x="10800" y="11049"/>
                        <a:pt x="10800" y="11363"/>
                      </a:cubicBezTo>
                      <a:lnTo>
                        <a:pt x="10800" y="20972"/>
                      </a:lnTo>
                      <a:cubicBezTo>
                        <a:pt x="10800" y="2128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Text Box 14"/>
                <p:cNvSpPr/>
                <p:nvPr/>
              </p:nvSpPr>
              <p:spPr>
                <a:xfrm>
                  <a:off x="3292920" y="3889440"/>
                  <a:ext cx="770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cription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actor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15"/>
                <p:cNvSpPr/>
                <p:nvPr/>
              </p:nvSpPr>
              <p:spPr>
                <a:xfrm>
                  <a:off x="3940200" y="4606920"/>
                  <a:ext cx="951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NA polymeras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16"/>
                <p:cNvSpPr/>
                <p:nvPr/>
              </p:nvSpPr>
              <p:spPr>
                <a:xfrm>
                  <a:off x="3362760" y="5864400"/>
                  <a:ext cx="55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ding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f DN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17"/>
                <p:cNvSpPr/>
                <p:nvPr/>
              </p:nvSpPr>
              <p:spPr>
                <a:xfrm>
                  <a:off x="5537520" y="6148440"/>
                  <a:ext cx="770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crip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8"/>
                <p:cNvSpPr/>
                <p:nvPr/>
              </p:nvSpPr>
              <p:spPr>
                <a:xfrm>
                  <a:off x="3732840" y="2990880"/>
                  <a:ext cx="580680" cy="28080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597" h="272">
                      <a:moveTo>
                        <a:pt x="0" y="266"/>
                      </a:moveTo>
                      <a:lnTo>
                        <a:pt x="250" y="0"/>
                      </a:lnTo>
                      <a:lnTo>
                        <a:pt x="597" y="272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Text Box 22"/>
            <p:cNvSpPr/>
            <p:nvPr/>
          </p:nvSpPr>
          <p:spPr>
            <a:xfrm>
              <a:off x="234648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685440"/>
            <a:ext cx="8534160" cy="19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814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lone or Not to Cl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314640">
              <a:spcBef>
                <a:spcPts val="75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ne is an individual created by asexual re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75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us is genetically identical to a single pa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_x000f_11_UN208a_U.jpg                                                00019A29&#10;Abhinav 11                     BE0A27B8:"/>
          <p:cNvPicPr/>
          <p:nvPr/>
        </p:nvPicPr>
        <p:blipFill>
          <a:blip r:embed="rId1"/>
          <a:stretch/>
        </p:blipFill>
        <p:spPr>
          <a:xfrm>
            <a:off x="522360" y="2905200"/>
            <a:ext cx="4790880" cy="3548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_x000f_11_UN208b_U.jpg                                                00019A29&#10;Abhinav 11                     BE0A27B8:"/>
          <p:cNvPicPr/>
          <p:nvPr/>
        </p:nvPicPr>
        <p:blipFill>
          <a:blip r:embed="rId2"/>
          <a:stretch/>
        </p:blipFill>
        <p:spPr>
          <a:xfrm>
            <a:off x="5857920" y="2882880"/>
            <a:ext cx="26906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ordinating Eukaryotic Gene Expres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304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ordinated gene expression in 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20880" indent="-53820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ems to depend on the association of enhancers with groups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7 Eukaryotic RNA may be spliced in more than one w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transcription, alternative splic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y generate two or more types of mRNA from the same transcrip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9"/>
          <p:cNvGrpSpPr/>
          <p:nvPr/>
        </p:nvGrpSpPr>
        <p:grpSpPr>
          <a:xfrm>
            <a:off x="1176480" y="3613320"/>
            <a:ext cx="5675040" cy="2835000"/>
            <a:chOff x="1176480" y="3613320"/>
            <a:chExt cx="5675040" cy="2835000"/>
          </a:xfrm>
        </p:grpSpPr>
        <p:grpSp>
          <p:nvGrpSpPr>
            <p:cNvPr id="381" name="Group 17"/>
            <p:cNvGrpSpPr/>
            <p:nvPr/>
          </p:nvGrpSpPr>
          <p:grpSpPr>
            <a:xfrm>
              <a:off x="2119680" y="3613320"/>
              <a:ext cx="4731840" cy="2835000"/>
              <a:chOff x="2119680" y="3613320"/>
              <a:chExt cx="4731840" cy="2835000"/>
            </a:xfrm>
          </p:grpSpPr>
          <p:pic>
            <p:nvPicPr>
              <p:cNvPr id="382" name="Picture 5" descr="_x000b_11_07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517840" y="3975120"/>
                <a:ext cx="4333680" cy="24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6"/>
              <p:cNvSpPr/>
              <p:nvPr/>
            </p:nvSpPr>
            <p:spPr>
              <a:xfrm>
                <a:off x="2119680" y="4148280"/>
                <a:ext cx="421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7"/>
              <p:cNvSpPr/>
              <p:nvPr/>
            </p:nvSpPr>
            <p:spPr>
              <a:xfrm>
                <a:off x="2123640" y="5033880"/>
                <a:ext cx="65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ranscrip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8"/>
              <p:cNvSpPr/>
              <p:nvPr/>
            </p:nvSpPr>
            <p:spPr>
              <a:xfrm>
                <a:off x="2131200" y="6137280"/>
                <a:ext cx="51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"/>
              <p:cNvSpPr/>
              <p:nvPr/>
            </p:nvSpPr>
            <p:spPr>
              <a:xfrm>
                <a:off x="4343760" y="3613320"/>
                <a:ext cx="500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0"/>
              <p:cNvSpPr/>
              <p:nvPr/>
            </p:nvSpPr>
            <p:spPr>
              <a:xfrm>
                <a:off x="4595760" y="3819600"/>
                <a:ext cx="0" cy="25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1"/>
              <p:cNvSpPr/>
              <p:nvPr/>
            </p:nvSpPr>
            <p:spPr>
              <a:xfrm flipV="1">
                <a:off x="3321000" y="3816000"/>
                <a:ext cx="1271520" cy="268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2"/>
              <p:cNvSpPr/>
              <p:nvPr/>
            </p:nvSpPr>
            <p:spPr>
              <a:xfrm flipV="1">
                <a:off x="3722760" y="3812760"/>
                <a:ext cx="8762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3"/>
              <p:cNvSpPr/>
              <p:nvPr/>
            </p:nvSpPr>
            <p:spPr>
              <a:xfrm>
                <a:off x="4592520" y="3816360"/>
                <a:ext cx="622440" cy="26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4"/>
              <p:cNvSpPr/>
              <p:nvPr/>
            </p:nvSpPr>
            <p:spPr>
              <a:xfrm>
                <a:off x="4594320" y="3811680"/>
                <a:ext cx="151272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4535280" y="5640480"/>
                <a:ext cx="282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2746080" y="5789520"/>
                <a:ext cx="839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splic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8"/>
            <p:cNvSpPr/>
            <p:nvPr/>
          </p:nvSpPr>
          <p:spPr>
            <a:xfrm>
              <a:off x="117648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8 Translation and later stages of gene expression are also subject to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eukaryotic mRNA is fully processed and transported to the cytopla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re are additional opportunities for regu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reakdown of m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etime of an mRNA molecu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elps determine how much protein is ma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nitiation of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ng the many molecules involved in 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a great many proteins that control the start of polypeptide synthes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ein Act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translation is compl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lypeptides may require alteration to become function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0"/>
          <p:cNvGrpSpPr/>
          <p:nvPr/>
        </p:nvGrpSpPr>
        <p:grpSpPr>
          <a:xfrm>
            <a:off x="165240" y="3402000"/>
            <a:ext cx="8775720" cy="2610000"/>
            <a:chOff x="165240" y="3402000"/>
            <a:chExt cx="8775720" cy="2610000"/>
          </a:xfrm>
        </p:grpSpPr>
        <p:grpSp>
          <p:nvGrpSpPr>
            <p:cNvPr id="404" name="Group 4"/>
            <p:cNvGrpSpPr/>
            <p:nvPr/>
          </p:nvGrpSpPr>
          <p:grpSpPr>
            <a:xfrm>
              <a:off x="165240" y="3402000"/>
              <a:ext cx="8775720" cy="2362320"/>
              <a:chOff x="165240" y="3402000"/>
              <a:chExt cx="8775720" cy="2362320"/>
            </a:xfrm>
          </p:grpSpPr>
          <p:pic>
            <p:nvPicPr>
              <p:cNvPr id="405" name="Picture 5" descr="_x000b_11_08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165240" y="3402000"/>
                <a:ext cx="8775720" cy="21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6"/>
              <p:cNvSpPr/>
              <p:nvPr/>
            </p:nvSpPr>
            <p:spPr>
              <a:xfrm>
                <a:off x="2206800" y="3881160"/>
                <a:ext cx="1991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lding of polypeptide an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mation of S—S linkag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7"/>
              <p:cNvSpPr/>
              <p:nvPr/>
            </p:nvSpPr>
            <p:spPr>
              <a:xfrm>
                <a:off x="6201000" y="4062240"/>
                <a:ext cx="82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eav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8"/>
              <p:cNvSpPr/>
              <p:nvPr/>
            </p:nvSpPr>
            <p:spPr>
              <a:xfrm rot="2677800">
                <a:off x="721440" y="38826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9"/>
              <p:cNvSpPr/>
              <p:nvPr/>
            </p:nvSpPr>
            <p:spPr>
              <a:xfrm rot="20089800">
                <a:off x="473400" y="42462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10"/>
              <p:cNvSpPr/>
              <p:nvPr/>
            </p:nvSpPr>
            <p:spPr>
              <a:xfrm rot="14202600">
                <a:off x="1441800" y="46512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1"/>
              <p:cNvSpPr/>
              <p:nvPr/>
            </p:nvSpPr>
            <p:spPr>
              <a:xfrm rot="7417200">
                <a:off x="1303560" y="43606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12"/>
              <p:cNvSpPr/>
              <p:nvPr/>
            </p:nvSpPr>
            <p:spPr>
              <a:xfrm rot="2305800">
                <a:off x="4726800" y="3917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3"/>
              <p:cNvSpPr/>
              <p:nvPr/>
            </p:nvSpPr>
            <p:spPr>
              <a:xfrm rot="2305800">
                <a:off x="4855320" y="40269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4"/>
              <p:cNvSpPr/>
              <p:nvPr/>
            </p:nvSpPr>
            <p:spPr>
              <a:xfrm>
                <a:off x="4587840" y="4721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5"/>
              <p:cNvSpPr/>
              <p:nvPr/>
            </p:nvSpPr>
            <p:spPr>
              <a:xfrm>
                <a:off x="4792680" y="471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6"/>
              <p:cNvSpPr/>
              <p:nvPr/>
            </p:nvSpPr>
            <p:spPr>
              <a:xfrm rot="19260000">
                <a:off x="5166360" y="43524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7"/>
              <p:cNvSpPr/>
              <p:nvPr/>
            </p:nvSpPr>
            <p:spPr>
              <a:xfrm rot="19260000">
                <a:off x="5309280" y="42141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8"/>
              <p:cNvSpPr/>
              <p:nvPr/>
            </p:nvSpPr>
            <p:spPr>
              <a:xfrm rot="3109800">
                <a:off x="7752600" y="39322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9"/>
              <p:cNvSpPr/>
              <p:nvPr/>
            </p:nvSpPr>
            <p:spPr>
              <a:xfrm rot="3109800">
                <a:off x="7885800" y="4075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7634160" y="47415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21"/>
              <p:cNvSpPr/>
              <p:nvPr/>
            </p:nvSpPr>
            <p:spPr>
              <a:xfrm>
                <a:off x="7834320" y="4732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22"/>
              <p:cNvSpPr/>
              <p:nvPr/>
            </p:nvSpPr>
            <p:spPr>
              <a:xfrm rot="19783200">
                <a:off x="8215560" y="43794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3"/>
              <p:cNvSpPr/>
              <p:nvPr/>
            </p:nvSpPr>
            <p:spPr>
              <a:xfrm rot="19783200">
                <a:off x="8358480" y="42220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24"/>
              <p:cNvSpPr/>
              <p:nvPr/>
            </p:nvSpPr>
            <p:spPr>
              <a:xfrm>
                <a:off x="686880" y="5303520"/>
                <a:ext cx="136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itial polypep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inactiv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25"/>
              <p:cNvSpPr/>
              <p:nvPr/>
            </p:nvSpPr>
            <p:spPr>
              <a:xfrm>
                <a:off x="4305600" y="5305320"/>
                <a:ext cx="147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lded polypep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inactiv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6"/>
              <p:cNvSpPr/>
              <p:nvPr/>
            </p:nvSpPr>
            <p:spPr>
              <a:xfrm>
                <a:off x="7508160" y="5305320"/>
                <a:ext cx="94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for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insul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27"/>
              <p:cNvSpPr/>
              <p:nvPr/>
            </p:nvSpPr>
            <p:spPr>
              <a:xfrm rot="17591400">
                <a:off x="1312200" y="380304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28"/>
              <p:cNvSpPr/>
              <p:nvPr/>
            </p:nvSpPr>
            <p:spPr>
              <a:xfrm rot="19912800">
                <a:off x="1886400" y="428904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29"/>
            <p:cNvSpPr/>
            <p:nvPr/>
          </p:nvSpPr>
          <p:spPr>
            <a:xfrm>
              <a:off x="3565440" y="5735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ein Break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proteins that trigger metabolic changes in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broken down within a few minutes or hou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9 Review: Multiple mechanisms regulate gene expression in eukary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8"/>
          <p:cNvGrpSpPr/>
          <p:nvPr/>
        </p:nvGrpSpPr>
        <p:grpSpPr>
          <a:xfrm>
            <a:off x="4687920" y="1271520"/>
            <a:ext cx="3411360" cy="5243760"/>
            <a:chOff x="4687920" y="1271520"/>
            <a:chExt cx="3411360" cy="5243760"/>
          </a:xfrm>
        </p:grpSpPr>
        <p:grpSp>
          <p:nvGrpSpPr>
            <p:cNvPr id="435" name="Group 36"/>
            <p:cNvGrpSpPr/>
            <p:nvPr/>
          </p:nvGrpSpPr>
          <p:grpSpPr>
            <a:xfrm>
              <a:off x="5626080" y="1271520"/>
              <a:ext cx="2473200" cy="5243760"/>
              <a:chOff x="5626080" y="1271520"/>
              <a:chExt cx="2473200" cy="5243760"/>
            </a:xfrm>
          </p:grpSpPr>
          <p:pic>
            <p:nvPicPr>
              <p:cNvPr id="436" name="Picture 5" descr="_x000b_11_09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626080" y="1271520"/>
                <a:ext cx="2473200" cy="52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Text Box 6"/>
              <p:cNvSpPr/>
              <p:nvPr/>
            </p:nvSpPr>
            <p:spPr>
              <a:xfrm>
                <a:off x="6551640" y="1425600"/>
                <a:ext cx="56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CLE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7"/>
              <p:cNvSpPr/>
              <p:nvPr/>
            </p:nvSpPr>
            <p:spPr>
              <a:xfrm>
                <a:off x="5832720" y="1625760"/>
                <a:ext cx="6408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8"/>
              <p:cNvSpPr/>
              <p:nvPr/>
            </p:nvSpPr>
            <p:spPr>
              <a:xfrm>
                <a:off x="5973480" y="2190600"/>
                <a:ext cx="368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9"/>
              <p:cNvSpPr/>
              <p:nvPr/>
            </p:nvSpPr>
            <p:spPr>
              <a:xfrm>
                <a:off x="5811840" y="2681280"/>
                <a:ext cx="67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NA transcrip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0"/>
              <p:cNvSpPr/>
              <p:nvPr/>
            </p:nvSpPr>
            <p:spPr>
              <a:xfrm>
                <a:off x="5775120" y="3440160"/>
                <a:ext cx="770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RNA in nucle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1"/>
              <p:cNvSpPr/>
              <p:nvPr/>
            </p:nvSpPr>
            <p:spPr>
              <a:xfrm>
                <a:off x="5821200" y="3979800"/>
                <a:ext cx="7401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RNA in cytoplasm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2"/>
              <p:cNvSpPr/>
              <p:nvPr/>
            </p:nvSpPr>
            <p:spPr>
              <a:xfrm>
                <a:off x="5857560" y="4788000"/>
                <a:ext cx="579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3"/>
              <p:cNvSpPr/>
              <p:nvPr/>
            </p:nvSpPr>
            <p:spPr>
              <a:xfrm>
                <a:off x="5834160" y="5386320"/>
                <a:ext cx="644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tive 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4"/>
              <p:cNvSpPr/>
              <p:nvPr/>
            </p:nvSpPr>
            <p:spPr>
              <a:xfrm>
                <a:off x="6388920" y="5622840"/>
                <a:ext cx="563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eak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f 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6389280" y="5075280"/>
                <a:ext cx="1040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leavage / modification /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tiv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6390720" y="4524480"/>
                <a:ext cx="5950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6393600" y="4259160"/>
                <a:ext cx="893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eakdown of mR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6562800" y="4041720"/>
                <a:ext cx="6501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9"/>
              <p:cNvSpPr/>
              <p:nvPr/>
            </p:nvSpPr>
            <p:spPr>
              <a:xfrm>
                <a:off x="6390720" y="3738600"/>
                <a:ext cx="76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low through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uclear envelop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20"/>
              <p:cNvSpPr/>
              <p:nvPr/>
            </p:nvSpPr>
            <p:spPr>
              <a:xfrm>
                <a:off x="6394680" y="3209760"/>
                <a:ext cx="447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lic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6393240" y="2935440"/>
                <a:ext cx="9550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ddition of cap and tai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6390720" y="2408400"/>
                <a:ext cx="671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23"/>
              <p:cNvSpPr/>
              <p:nvPr/>
            </p:nvSpPr>
            <p:spPr>
              <a:xfrm>
                <a:off x="6389280" y="1879560"/>
                <a:ext cx="950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NA unpack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ther changes to D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4"/>
              <p:cNvSpPr/>
              <p:nvPr/>
            </p:nvSpPr>
            <p:spPr>
              <a:xfrm>
                <a:off x="7372080" y="2355840"/>
                <a:ext cx="368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25"/>
              <p:cNvSpPr/>
              <p:nvPr/>
            </p:nvSpPr>
            <p:spPr>
              <a:xfrm rot="5400000">
                <a:off x="7395840" y="1949400"/>
                <a:ext cx="57240" cy="809640"/>
              </a:xfrm>
              <a:custGeom>
                <a:avLst/>
                <a:gdLst>
                  <a:gd name="textAreaLeft" fmla="*/ 0 w 57240"/>
                  <a:gd name="textAreaRight" fmla="*/ 20520 w 57240"/>
                  <a:gd name="textAreaTop" fmla="*/ 2520 h 809640"/>
                  <a:gd name="textAreaBottom" fmla="*/ 80712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22"/>
                      <a:pt x="10800" y="243"/>
                    </a:cubicBezTo>
                    <a:lnTo>
                      <a:pt x="10800" y="7523"/>
                    </a:lnTo>
                    <a:cubicBezTo>
                      <a:pt x="10800" y="7645"/>
                      <a:pt x="16200" y="7766"/>
                      <a:pt x="21600" y="7766"/>
                    </a:cubicBezTo>
                    <a:cubicBezTo>
                      <a:pt x="16200" y="7766"/>
                      <a:pt x="10800" y="7888"/>
                      <a:pt x="10800" y="8009"/>
                    </a:cubicBezTo>
                    <a:lnTo>
                      <a:pt x="10800" y="21357"/>
                    </a:lnTo>
                    <a:cubicBezTo>
                      <a:pt x="10800" y="21479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26"/>
              <p:cNvSpPr/>
              <p:nvPr/>
            </p:nvSpPr>
            <p:spPr>
              <a:xfrm>
                <a:off x="6937920" y="2544840"/>
                <a:ext cx="354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x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>
                <a:off x="7104240" y="2684520"/>
                <a:ext cx="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>
                <a:off x="7184880" y="2708280"/>
                <a:ext cx="0" cy="17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7002000" y="2833560"/>
                <a:ext cx="377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ntr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7003080" y="3473280"/>
                <a:ext cx="320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1"/>
              <p:cNvSpPr/>
              <p:nvPr/>
            </p:nvSpPr>
            <p:spPr>
              <a:xfrm>
                <a:off x="7229520" y="3557520"/>
                <a:ext cx="93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7655040" y="3192480"/>
                <a:ext cx="304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 flipH="1">
                <a:off x="7791480" y="3343320"/>
                <a:ext cx="2376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34"/>
              <p:cNvSpPr/>
              <p:nvPr/>
            </p:nvSpPr>
            <p:spPr>
              <a:xfrm>
                <a:off x="7499520" y="4432320"/>
                <a:ext cx="44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oken-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35"/>
              <p:cNvSpPr/>
              <p:nvPr/>
            </p:nvSpPr>
            <p:spPr>
              <a:xfrm>
                <a:off x="7537680" y="5938920"/>
                <a:ext cx="44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oken-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37"/>
            <p:cNvSpPr/>
            <p:nvPr/>
          </p:nvSpPr>
          <p:spPr>
            <a:xfrm>
              <a:off x="4687920" y="61516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ANIMAL CLONING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4920" y="276120"/>
            <a:ext cx="85341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0 Nuclear transplantation can be used to clone ani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media.pearsoncmg.com/bc/bc_campbell_essentials_3/discvids/_html/index.htm?info_text=cc5_clon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4456"/>
                </a:solidFill>
                <a:latin typeface="Calibri"/>
              </a:rPr>
              <a:t>Three Different Types of Cloning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bry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oductive Clo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apeu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560" y="685800"/>
            <a:ext cx="86281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oning has many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evokes just as many concer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_x000f_11_UN209c_U.jpg                                                00019A29&#10;Abhinav 11                     BE0A27B8:"/>
          <p:cNvPicPr/>
          <p:nvPr/>
        </p:nvPicPr>
        <p:blipFill>
          <a:blip r:embed="rId1"/>
          <a:stretch/>
        </p:blipFill>
        <p:spPr>
          <a:xfrm>
            <a:off x="257040" y="3798720"/>
            <a:ext cx="3140280" cy="253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_x000f_11_UN209b_U.jpg                                                00019A29&#10;Abhinav 11                     BE0A27B8:"/>
          <p:cNvPicPr/>
          <p:nvPr/>
        </p:nvPicPr>
        <p:blipFill>
          <a:blip r:embed="rId2"/>
          <a:stretch/>
        </p:blipFill>
        <p:spPr>
          <a:xfrm>
            <a:off x="3543480" y="3314880"/>
            <a:ext cx="2522520" cy="3066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_x000f_11_UN209a_U.jpg                                                00019A29&#10;Abhinav 11                     BE0A27B8:"/>
          <p:cNvPicPr/>
          <p:nvPr/>
        </p:nvPicPr>
        <p:blipFill>
          <a:blip r:embed="rId3"/>
          <a:stretch/>
        </p:blipFill>
        <p:spPr>
          <a:xfrm>
            <a:off x="6211800" y="3065400"/>
            <a:ext cx="26481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Embryonic Stem Cells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53360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nature, embryonic stem cells give rise to all the different kinds of specialized cells of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different cloning procedure (Figure 11.10, lower branch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mbryonic stem cells (ES cells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harvested from the blastocy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476" name="Group 19"/>
          <p:cNvGrpSpPr/>
          <p:nvPr/>
        </p:nvGrpSpPr>
        <p:grpSpPr>
          <a:xfrm>
            <a:off x="413640" y="1982880"/>
            <a:ext cx="8327520" cy="4304880"/>
            <a:chOff x="413640" y="1982880"/>
            <a:chExt cx="8327520" cy="4304880"/>
          </a:xfrm>
        </p:grpSpPr>
        <p:grpSp>
          <p:nvGrpSpPr>
            <p:cNvPr id="477" name="Group 5"/>
            <p:cNvGrpSpPr/>
            <p:nvPr/>
          </p:nvGrpSpPr>
          <p:grpSpPr>
            <a:xfrm>
              <a:off x="413640" y="1982880"/>
              <a:ext cx="8327520" cy="3850560"/>
              <a:chOff x="413640" y="1982880"/>
              <a:chExt cx="8327520" cy="3850560"/>
            </a:xfrm>
          </p:grpSpPr>
          <p:pic>
            <p:nvPicPr>
              <p:cNvPr id="478" name="Picture 6" descr="_x000b_11_10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59800" y="1982880"/>
                <a:ext cx="7950600" cy="33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Text Box 7"/>
              <p:cNvSpPr/>
              <p:nvPr/>
            </p:nvSpPr>
            <p:spPr>
              <a:xfrm>
                <a:off x="413640" y="4187520"/>
                <a:ext cx="1319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ove nucleu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egg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8"/>
              <p:cNvSpPr/>
              <p:nvPr/>
            </p:nvSpPr>
            <p:spPr>
              <a:xfrm>
                <a:off x="1588320" y="4185360"/>
                <a:ext cx="1294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d somatic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adult don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9"/>
              <p:cNvSpPr/>
              <p:nvPr/>
            </p:nvSpPr>
            <p:spPr>
              <a:xfrm>
                <a:off x="2946240" y="4179240"/>
                <a:ext cx="2187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 in culture to produce 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arly embryo (blastocys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10"/>
              <p:cNvSpPr/>
              <p:nvPr/>
            </p:nvSpPr>
            <p:spPr>
              <a:xfrm>
                <a:off x="5280480" y="3270600"/>
                <a:ext cx="156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ant blastocyst in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rrogate mo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11"/>
              <p:cNvSpPr/>
              <p:nvPr/>
            </p:nvSpPr>
            <p:spPr>
              <a:xfrm>
                <a:off x="5352840" y="5189760"/>
                <a:ext cx="1869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ove embryonic ste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s from blastocyst an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 in cul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2"/>
              <p:cNvSpPr/>
              <p:nvPr/>
            </p:nvSpPr>
            <p:spPr>
              <a:xfrm>
                <a:off x="7040160" y="5191920"/>
                <a:ext cx="1689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duce stem cells t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m specialized cell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therapeutic cloning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3"/>
              <p:cNvSpPr/>
              <p:nvPr/>
            </p:nvSpPr>
            <p:spPr>
              <a:xfrm>
                <a:off x="6949440" y="3268800"/>
                <a:ext cx="179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one of donor is bor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reproductive cloning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4"/>
              <p:cNvSpPr/>
              <p:nvPr/>
            </p:nvSpPr>
            <p:spPr>
              <a:xfrm flipV="1">
                <a:off x="2003040" y="2520000"/>
                <a:ext cx="237960" cy="25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5"/>
              <p:cNvSpPr/>
              <p:nvPr/>
            </p:nvSpPr>
            <p:spPr>
              <a:xfrm>
                <a:off x="2188080" y="2307960"/>
                <a:ext cx="59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6"/>
              <p:cNvSpPr/>
              <p:nvPr/>
            </p:nvSpPr>
            <p:spPr>
              <a:xfrm flipV="1">
                <a:off x="3313800" y="2665800"/>
                <a:ext cx="0" cy="12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17"/>
              <p:cNvSpPr/>
              <p:nvPr/>
            </p:nvSpPr>
            <p:spPr>
              <a:xfrm>
                <a:off x="2833200" y="2117880"/>
                <a:ext cx="108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us fro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8"/>
            <p:cNvSpPr/>
            <p:nvPr/>
          </p:nvSpPr>
          <p:spPr>
            <a:xfrm>
              <a:off x="3803760" y="60112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Reproductive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animal to be cloned is a mammal, further development requires implanting the blastocyst into the uterus of a surrogate m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herapeutic 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ow cells for the repair of injured or diseas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Such cells could be made by inserting a cell nucleus from a patient into an ES cell from which the nucleus has been remov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When implanted in the patient, these cells would not be rejected by the immune system because they would be genetically identical to the patient’s own cell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1 Reproductive cloning has valuable applications, but human reproductive cloning raises ethic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tive cloning of nonhuman mam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useful in research, agriculture, and medicin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7"/>
          <p:cNvGrpSpPr/>
          <p:nvPr/>
        </p:nvGrpSpPr>
        <p:grpSpPr>
          <a:xfrm>
            <a:off x="3920760" y="3681360"/>
            <a:ext cx="4896360" cy="2745000"/>
            <a:chOff x="3920760" y="3681360"/>
            <a:chExt cx="4896360" cy="2745000"/>
          </a:xfrm>
        </p:grpSpPr>
        <p:pic>
          <p:nvPicPr>
            <p:cNvPr id="499" name="Picture 5" descr="_x000b_11_11_U.jpg                                                    00019A29&#10;Abhinav 11                     BE0A27B8:"/>
            <p:cNvPicPr/>
            <p:nvPr/>
          </p:nvPicPr>
          <p:blipFill>
            <a:blip r:embed="rId1"/>
            <a:stretch/>
          </p:blipFill>
          <p:spPr>
            <a:xfrm>
              <a:off x="4975200" y="3681360"/>
              <a:ext cx="3841920" cy="27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>
              <a:off x="392076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itics point out that there are many obsta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oth practical and ethical, to human clon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6"/>
          <p:cNvGrpSpPr/>
          <p:nvPr/>
        </p:nvGrpSpPr>
        <p:grpSpPr>
          <a:xfrm>
            <a:off x="3812760" y="3508200"/>
            <a:ext cx="4646160" cy="3033720"/>
            <a:chOff x="3812760" y="3508200"/>
            <a:chExt cx="4646160" cy="3033720"/>
          </a:xfrm>
        </p:grpSpPr>
        <p:grpSp>
          <p:nvGrpSpPr>
            <p:cNvPr id="504" name="Group 14"/>
            <p:cNvGrpSpPr/>
            <p:nvPr/>
          </p:nvGrpSpPr>
          <p:grpSpPr>
            <a:xfrm>
              <a:off x="4881600" y="3508200"/>
              <a:ext cx="3577320" cy="3033720"/>
              <a:chOff x="4881600" y="3508200"/>
              <a:chExt cx="3577320" cy="3033720"/>
            </a:xfrm>
          </p:grpSpPr>
          <p:pic>
            <p:nvPicPr>
              <p:cNvPr id="505" name="Picture 6" descr="_x000b_11_12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019480" y="3508200"/>
                <a:ext cx="327348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Text Box 7"/>
              <p:cNvSpPr/>
              <p:nvPr/>
            </p:nvSpPr>
            <p:spPr>
              <a:xfrm>
                <a:off x="4881600" y="4438440"/>
                <a:ext cx="822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stem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s in b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rr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8"/>
              <p:cNvSpPr/>
              <p:nvPr/>
            </p:nvSpPr>
            <p:spPr>
              <a:xfrm>
                <a:off x="4925880" y="5511600"/>
                <a:ext cx="711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ultured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bryonic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em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9"/>
              <p:cNvSpPr/>
              <p:nvPr/>
            </p:nvSpPr>
            <p:spPr>
              <a:xfrm>
                <a:off x="6098040" y="6163920"/>
                <a:ext cx="99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fferent cultur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di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10"/>
              <p:cNvSpPr/>
              <p:nvPr/>
            </p:nvSpPr>
            <p:spPr>
              <a:xfrm>
                <a:off x="7281720" y="5913000"/>
                <a:ext cx="1121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rt muscle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11"/>
              <p:cNvSpPr/>
              <p:nvPr/>
            </p:nvSpPr>
            <p:spPr>
              <a:xfrm>
                <a:off x="7263360" y="617364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fferent types of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fferentiated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12"/>
              <p:cNvSpPr/>
              <p:nvPr/>
            </p:nvSpPr>
            <p:spPr>
              <a:xfrm>
                <a:off x="7197120" y="5349600"/>
                <a:ext cx="75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rve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3"/>
              <p:cNvSpPr/>
              <p:nvPr/>
            </p:nvSpPr>
            <p:spPr>
              <a:xfrm>
                <a:off x="7366680" y="4081320"/>
                <a:ext cx="738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lood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 Box 15"/>
            <p:cNvSpPr/>
            <p:nvPr/>
          </p:nvSpPr>
          <p:spPr>
            <a:xfrm>
              <a:off x="3812760" y="62305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383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12 Therapeutic cloning can produce stem cells with great medical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ke embryonic stem cells, adult stem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perpetuate themselves in culture and give rise to differentiat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like embryonic stem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dult stem cells normally give rise to only a limited range of cell typ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Calibri"/>
              </a:rPr>
              <a:t>THE GENETIC CONTROL OF EMBRYONIC DEVELOPMENT</a:t>
            </a:r>
            <a:endParaRPr b="0" lang="en-US" sz="2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13 Cascades of gene expression and cell-to-cell signaling direct the development of an anim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rly understanding of the relationship between gene expression and embryonic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me from studies of mutants of the fruit fly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rosophila melanogas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2"/>
          <p:cNvGrpSpPr/>
          <p:nvPr/>
        </p:nvGrpSpPr>
        <p:grpSpPr>
          <a:xfrm>
            <a:off x="2805120" y="3792600"/>
            <a:ext cx="4808520" cy="2716920"/>
            <a:chOff x="2805120" y="3792600"/>
            <a:chExt cx="4808520" cy="2716920"/>
          </a:xfrm>
        </p:grpSpPr>
        <p:pic>
          <p:nvPicPr>
            <p:cNvPr id="523" name="Picture 6" descr="_x000c_11_13a_U.jpg                                                   00019A29&#10;Abhinav 11                     BE0A27B8:"/>
            <p:cNvPicPr/>
            <p:nvPr/>
          </p:nvPicPr>
          <p:blipFill>
            <a:blip r:embed="rId1"/>
            <a:stretch/>
          </p:blipFill>
          <p:spPr>
            <a:xfrm>
              <a:off x="2805120" y="3792600"/>
              <a:ext cx="480852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7"/>
            <p:cNvSpPr/>
            <p:nvPr/>
          </p:nvSpPr>
          <p:spPr>
            <a:xfrm>
              <a:off x="2901600" y="3984480"/>
              <a:ext cx="38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y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209760" y="4151160"/>
              <a:ext cx="241560" cy="32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2917080" y="5310360"/>
              <a:ext cx="63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 flipH="1">
              <a:off x="3244680" y="4813200"/>
              <a:ext cx="541440" cy="500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1"/>
            <p:cNvSpPr/>
            <p:nvPr/>
          </p:nvSpPr>
          <p:spPr>
            <a:xfrm>
              <a:off x="5509800" y="5842080"/>
              <a:ext cx="38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5705640" y="5450040"/>
              <a:ext cx="0" cy="442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3"/>
            <p:cNvSpPr/>
            <p:nvPr/>
          </p:nvSpPr>
          <p:spPr>
            <a:xfrm rot="16200000">
              <a:off x="4891320" y="59130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 5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4"/>
            <p:cNvSpPr/>
            <p:nvPr/>
          </p:nvSpPr>
          <p:spPr>
            <a:xfrm flipH="1">
              <a:off x="3246480" y="4819680"/>
              <a:ext cx="54288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5"/>
            <p:cNvSpPr/>
            <p:nvPr/>
          </p:nvSpPr>
          <p:spPr>
            <a:xfrm>
              <a:off x="5705640" y="5456160"/>
              <a:ext cx="0" cy="42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3219480" y="4156200"/>
              <a:ext cx="23508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7"/>
            <p:cNvSpPr/>
            <p:nvPr/>
          </p:nvSpPr>
          <p:spPr>
            <a:xfrm>
              <a:off x="2933640" y="6278400"/>
              <a:ext cx="2129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 of a normal fruit f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8"/>
            <p:cNvSpPr/>
            <p:nvPr/>
          </p:nvSpPr>
          <p:spPr>
            <a:xfrm>
              <a:off x="5262480" y="6275520"/>
              <a:ext cx="216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 of a developmental muta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1647360" y="62406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920" y="685440"/>
            <a:ext cx="853416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774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 cascade of gene express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77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Controls the development of an animal from a fertilized egg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_x000c_11_13b_U.jpg                                                   00019A44&#10;Abhinav 11                     BE0A27B8:"/>
          <p:cNvPicPr/>
          <p:nvPr/>
        </p:nvPicPr>
        <p:blipFill>
          <a:blip r:embed="rId1"/>
          <a:stretch/>
        </p:blipFill>
        <p:spPr>
          <a:xfrm>
            <a:off x="4137120" y="1952640"/>
            <a:ext cx="1859040" cy="45878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4211280" y="2109960"/>
            <a:ext cx="613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within ovarian</a:t>
            </a:r>
            <a:br>
              <a:rPr sz="500"/>
            </a:b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follic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299120" y="235728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302000" y="284940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451400" y="2486160"/>
            <a:ext cx="52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 flipV="1">
            <a:off x="4829040" y="2421000"/>
            <a:ext cx="10332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4843440" y="2478240"/>
            <a:ext cx="18108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5454360" y="2108160"/>
            <a:ext cx="406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5440680" y="2208240"/>
            <a:ext cx="505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prote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5289480" y="2189160"/>
            <a:ext cx="22536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 flipV="1">
            <a:off x="5334120" y="2288880"/>
            <a:ext cx="16668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5097240" y="2506680"/>
            <a:ext cx="66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 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5448600" y="2719440"/>
            <a:ext cx="489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 flipV="1">
            <a:off x="5381640" y="2815920"/>
            <a:ext cx="1112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5084280" y="3073320"/>
            <a:ext cx="640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ocalization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“head” 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4305240" y="341784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77080" y="3657600"/>
            <a:ext cx="56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Fertilization </a:t>
            </a:r>
            <a:br>
              <a:rPr sz="500"/>
            </a:b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nd mitos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2"/>
          <p:cNvSpPr/>
          <p:nvPr/>
        </p:nvSpPr>
        <p:spPr>
          <a:xfrm>
            <a:off x="5084280" y="3854520"/>
            <a:ext cx="640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“head” 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5436360" y="4143240"/>
            <a:ext cx="514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adient of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gulatory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4"/>
          <p:cNvSpPr/>
          <p:nvPr/>
        </p:nvSpPr>
        <p:spPr>
          <a:xfrm>
            <a:off x="5318280" y="4237200"/>
            <a:ext cx="20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5086080" y="443556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5446800" y="4727520"/>
            <a:ext cx="4428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adient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certa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7"/>
          <p:cNvSpPr/>
          <p:nvPr/>
        </p:nvSpPr>
        <p:spPr>
          <a:xfrm>
            <a:off x="5303880" y="4830840"/>
            <a:ext cx="2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5090760" y="508788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5092560" y="573876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0"/>
          <p:cNvSpPr/>
          <p:nvPr/>
        </p:nvSpPr>
        <p:spPr>
          <a:xfrm>
            <a:off x="5450400" y="5210280"/>
            <a:ext cx="456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dy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 flipH="1">
            <a:off x="5291280" y="5294160"/>
            <a:ext cx="233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2"/>
          <p:cNvSpPr/>
          <p:nvPr/>
        </p:nvSpPr>
        <p:spPr>
          <a:xfrm flipH="1">
            <a:off x="5344920" y="5294160"/>
            <a:ext cx="176040" cy="1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3"/>
          <p:cNvSpPr/>
          <p:nvPr/>
        </p:nvSpPr>
        <p:spPr>
          <a:xfrm>
            <a:off x="5475240" y="5524560"/>
            <a:ext cx="39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1 m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4"/>
          <p:cNvSpPr/>
          <p:nvPr/>
        </p:nvSpPr>
        <p:spPr>
          <a:xfrm>
            <a:off x="5469480" y="6043680"/>
            <a:ext cx="406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ail e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5"/>
          <p:cNvSpPr/>
          <p:nvPr/>
        </p:nvSpPr>
        <p:spPr>
          <a:xfrm>
            <a:off x="5484600" y="6257880"/>
            <a:ext cx="39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6"/>
          <p:cNvSpPr/>
          <p:nvPr/>
        </p:nvSpPr>
        <p:spPr>
          <a:xfrm>
            <a:off x="4395240" y="6062760"/>
            <a:ext cx="45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ead e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7"/>
          <p:cNvSpPr/>
          <p:nvPr/>
        </p:nvSpPr>
        <p:spPr>
          <a:xfrm>
            <a:off x="4302000" y="41511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8"/>
          <p:cNvSpPr/>
          <p:nvPr/>
        </p:nvSpPr>
        <p:spPr>
          <a:xfrm>
            <a:off x="4305240" y="478008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4305240" y="53895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0"/>
          <p:cNvSpPr/>
          <p:nvPr/>
        </p:nvSpPr>
        <p:spPr>
          <a:xfrm>
            <a:off x="4308480" y="61977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1"/>
          <p:cNvSpPr/>
          <p:nvPr/>
        </p:nvSpPr>
        <p:spPr>
          <a:xfrm>
            <a:off x="4233960" y="5892840"/>
            <a:ext cx="43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dult fl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2"/>
          <p:cNvSpPr/>
          <p:nvPr/>
        </p:nvSpPr>
        <p:spPr>
          <a:xfrm>
            <a:off x="4233240" y="3897360"/>
            <a:ext cx="418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Embry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4414320" y="3552840"/>
            <a:ext cx="374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ead”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4"/>
          <p:cNvSpPr/>
          <p:nvPr/>
        </p:nvSpPr>
        <p:spPr>
          <a:xfrm flipH="1">
            <a:off x="4722480" y="3529080"/>
            <a:ext cx="31572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5"/>
          <p:cNvSpPr/>
          <p:nvPr/>
        </p:nvSpPr>
        <p:spPr>
          <a:xfrm>
            <a:off x="4231800" y="5737320"/>
            <a:ext cx="349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7"/>
          <p:cNvSpPr/>
          <p:nvPr/>
        </p:nvSpPr>
        <p:spPr>
          <a:xfrm>
            <a:off x="2955600" y="60976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6800" y="7045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GENE REGULA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 Proteins interacting with DNA turn prokaryotic genes on or off in response to environment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175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ly understanding of gene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28800" indent="-5461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me from studies of the bacterium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Escherichia col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2219400" y="4003560"/>
            <a:ext cx="4299840" cy="2541960"/>
            <a:chOff x="2219400" y="4003560"/>
            <a:chExt cx="4299840" cy="2541960"/>
          </a:xfrm>
        </p:grpSpPr>
        <p:grpSp>
          <p:nvGrpSpPr>
            <p:cNvPr id="218" name="Group 8"/>
            <p:cNvGrpSpPr/>
            <p:nvPr/>
          </p:nvGrpSpPr>
          <p:grpSpPr>
            <a:xfrm>
              <a:off x="2219400" y="4003560"/>
              <a:ext cx="4157640" cy="2541960"/>
              <a:chOff x="2219400" y="4003560"/>
              <a:chExt cx="4157640" cy="2541960"/>
            </a:xfrm>
          </p:grpSpPr>
          <p:pic>
            <p:nvPicPr>
              <p:cNvPr id="219" name="Picture 6" descr="_x000c_11_01a_U.jpg                                                   00019A29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36840" y="4003560"/>
                <a:ext cx="3040200" cy="25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7"/>
              <p:cNvSpPr/>
              <p:nvPr/>
            </p:nvSpPr>
            <p:spPr>
              <a:xfrm>
                <a:off x="2219400" y="6269040"/>
                <a:ext cx="109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1.1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9"/>
            <p:cNvSpPr/>
            <p:nvPr/>
          </p:nvSpPr>
          <p:spPr>
            <a:xfrm rot="16200000">
              <a:off x="5581080" y="5600880"/>
              <a:ext cx="161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orized SEM 7,000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otic ge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trol batteries of genes that shape anatomical parts such as antenna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4 Signal transduction pathways convert messages received at the cell surface to responses within the c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04920" y="685440"/>
            <a:ext cx="85341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31464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gnal transduction path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 molecular messages to cell respon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&#13;11_14_4_U.jpg                                                  0051B389_x0003_203                            BE72A059:"/>
          <p:cNvPicPr/>
          <p:nvPr/>
        </p:nvPicPr>
        <p:blipFill>
          <a:blip r:embed="rId1"/>
          <a:stretch/>
        </p:blipFill>
        <p:spPr>
          <a:xfrm>
            <a:off x="2916360" y="2139840"/>
            <a:ext cx="3004920" cy="43038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6"/>
          <p:cNvSpPr/>
          <p:nvPr/>
        </p:nvSpPr>
        <p:spPr>
          <a:xfrm>
            <a:off x="3052800" y="225936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ling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308840" y="2386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484880" y="27147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ptor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100120" y="2649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sm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3095280" y="33184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rge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4740120" y="35593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039480" y="4094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cription factor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ctiva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327920" y="523296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506760" y="4645440"/>
            <a:ext cx="59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3395880" y="498528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3828240" y="528372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5297760" y="55026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4853880" y="602496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3422880" y="259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4007160" y="2780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4465800" y="3006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4393080" y="403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4081680" y="5147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4729320" y="5824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5"/>
          <p:cNvSpPr/>
          <p:nvPr/>
        </p:nvSpPr>
        <p:spPr>
          <a:xfrm>
            <a:off x="5433840" y="299088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6"/>
          <p:cNvSpPr/>
          <p:nvPr/>
        </p:nvSpPr>
        <p:spPr>
          <a:xfrm flipV="1">
            <a:off x="4167360" y="2519280"/>
            <a:ext cx="19512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7"/>
          <p:cNvSpPr/>
          <p:nvPr/>
        </p:nvSpPr>
        <p:spPr>
          <a:xfrm>
            <a:off x="4394160" y="37004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8"/>
          <p:cNvSpPr/>
          <p:nvPr/>
        </p:nvSpPr>
        <p:spPr>
          <a:xfrm flipV="1">
            <a:off x="5243400" y="5645160"/>
            <a:ext cx="9684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9"/>
          <p:cNvSpPr/>
          <p:nvPr/>
        </p:nvSpPr>
        <p:spPr>
          <a:xfrm flipV="1">
            <a:off x="4378320" y="2846520"/>
            <a:ext cx="14940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0"/>
          <p:cNvSpPr/>
          <p:nvPr/>
        </p:nvSpPr>
        <p:spPr>
          <a:xfrm>
            <a:off x="4332240" y="3387600"/>
            <a:ext cx="447840" cy="606600"/>
          </a:xfrm>
          <a:custGeom>
            <a:avLst/>
            <a:gdLst>
              <a:gd name="textAreaLeft" fmla="*/ 0 w 447840"/>
              <a:gd name="textAreaRight" fmla="*/ 448200 w 4478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48" h="472">
                <a:moveTo>
                  <a:pt x="0" y="0"/>
                </a:moveTo>
                <a:lnTo>
                  <a:pt x="348" y="240"/>
                </a:lnTo>
                <a:lnTo>
                  <a:pt x="20" y="4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1861920" y="608796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5 Key developmental genes are very an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otic genes contain nucleotide sequences, called homeobo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at are very similar in many kinds of organis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393720" y="3421080"/>
            <a:ext cx="4079160" cy="2905200"/>
            <a:chOff x="3393720" y="3421080"/>
            <a:chExt cx="4079160" cy="2905200"/>
          </a:xfrm>
        </p:grpSpPr>
        <p:grpSp>
          <p:nvGrpSpPr>
            <p:cNvPr id="617" name="Group 12"/>
            <p:cNvGrpSpPr/>
            <p:nvPr/>
          </p:nvGrpSpPr>
          <p:grpSpPr>
            <a:xfrm>
              <a:off x="4513680" y="3421080"/>
              <a:ext cx="2959200" cy="2872800"/>
              <a:chOff x="4513680" y="3421080"/>
              <a:chExt cx="2959200" cy="2872800"/>
            </a:xfrm>
          </p:grpSpPr>
          <p:pic>
            <p:nvPicPr>
              <p:cNvPr id="618" name="Picture 5" descr="_x000b_11_15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4687920" y="3549600"/>
                <a:ext cx="2744640" cy="25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6"/>
              <p:cNvSpPr/>
              <p:nvPr/>
            </p:nvSpPr>
            <p:spPr>
              <a:xfrm>
                <a:off x="4976280" y="3421080"/>
                <a:ext cx="1029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ly chromosom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7"/>
              <p:cNvSpPr/>
              <p:nvPr/>
            </p:nvSpPr>
            <p:spPr>
              <a:xfrm>
                <a:off x="6003360" y="3425760"/>
                <a:ext cx="1278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use chromosom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8"/>
              <p:cNvSpPr/>
              <p:nvPr/>
            </p:nvSpPr>
            <p:spPr>
              <a:xfrm>
                <a:off x="4513680" y="4871880"/>
                <a:ext cx="1529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uit fly embryo (10 hours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9"/>
              <p:cNvSpPr/>
              <p:nvPr/>
            </p:nvSpPr>
            <p:spPr>
              <a:xfrm>
                <a:off x="6021000" y="4881600"/>
                <a:ext cx="1451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use embryo (12 days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0"/>
              <p:cNvSpPr/>
              <p:nvPr/>
            </p:nvSpPr>
            <p:spPr>
              <a:xfrm>
                <a:off x="5076000" y="6060960"/>
                <a:ext cx="8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fruit f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1"/>
              <p:cNvSpPr/>
              <p:nvPr/>
            </p:nvSpPr>
            <p:spPr>
              <a:xfrm>
                <a:off x="6453360" y="6062760"/>
                <a:ext cx="81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mou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13"/>
            <p:cNvSpPr/>
            <p:nvPr/>
          </p:nvSpPr>
          <p:spPr>
            <a:xfrm>
              <a:off x="3393720" y="60498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HE GENETIC BASIS OF CANCER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6 Cancer results from mutations in genes that control cell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928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 cells, which divide uncontrollab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sult from mutations in genes whose protein products affect the cell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o-Oncoge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normal gene that has the potential to become an oncogene is called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o-oncoge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mutation can change a proto-oncogene (a normal gene that promotes cell division)into an oncogene, which causes cells to divide excessive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tations that produce most types of cancer occur in somatic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0"/>
          <p:cNvGrpSpPr/>
          <p:nvPr/>
        </p:nvGrpSpPr>
        <p:grpSpPr>
          <a:xfrm>
            <a:off x="4325400" y="3662280"/>
            <a:ext cx="4080600" cy="2710080"/>
            <a:chOff x="4325400" y="3662280"/>
            <a:chExt cx="4080600" cy="2710080"/>
          </a:xfrm>
        </p:grpSpPr>
        <p:grpSp>
          <p:nvGrpSpPr>
            <p:cNvPr id="632" name="Group 18"/>
            <p:cNvGrpSpPr/>
            <p:nvPr/>
          </p:nvGrpSpPr>
          <p:grpSpPr>
            <a:xfrm>
              <a:off x="4325400" y="3662280"/>
              <a:ext cx="4080600" cy="2614680"/>
              <a:chOff x="4325400" y="3662280"/>
              <a:chExt cx="4080600" cy="2614680"/>
            </a:xfrm>
          </p:grpSpPr>
          <p:pic>
            <p:nvPicPr>
              <p:cNvPr id="633" name="Picture 5" descr="_x000c_11_16a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4519800" y="3770280"/>
                <a:ext cx="3822480" cy="22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6"/>
              <p:cNvSpPr/>
              <p:nvPr/>
            </p:nvSpPr>
            <p:spPr>
              <a:xfrm>
                <a:off x="5953680" y="3662280"/>
                <a:ext cx="1148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-oncogene 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"/>
              <p:cNvSpPr/>
              <p:nvPr/>
            </p:nvSpPr>
            <p:spPr>
              <a:xfrm>
                <a:off x="4699080" y="4281480"/>
                <a:ext cx="86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tation with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8"/>
              <p:cNvSpPr/>
              <p:nvPr/>
            </p:nvSpPr>
            <p:spPr>
              <a:xfrm>
                <a:off x="6053760" y="42814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ltiple copi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the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Text Box 9"/>
              <p:cNvSpPr/>
              <p:nvPr/>
            </p:nvSpPr>
            <p:spPr>
              <a:xfrm>
                <a:off x="7364160" y="4271760"/>
                <a:ext cx="104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ene moved to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w DNA locus,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nder new contr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Text Box 10"/>
              <p:cNvSpPr/>
              <p:nvPr/>
            </p:nvSpPr>
            <p:spPr>
              <a:xfrm>
                <a:off x="4687920" y="5135400"/>
                <a:ext cx="711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nco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11"/>
              <p:cNvSpPr/>
              <p:nvPr/>
            </p:nvSpPr>
            <p:spPr>
              <a:xfrm flipV="1" rot="16200000">
                <a:off x="4971960" y="4844160"/>
                <a:ext cx="122040" cy="452520"/>
              </a:xfrm>
              <a:custGeom>
                <a:avLst/>
                <a:gdLst>
                  <a:gd name="textAreaLeft" fmla="*/ 78120 w 122040"/>
                  <a:gd name="textAreaRight" fmla="*/ 122040 w 122040"/>
                  <a:gd name="textAreaTop" fmla="*/ 11520 h 452520"/>
                  <a:gd name="textAreaBottom" fmla="*/ 44100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777"/>
                    </a:lnTo>
                    <a:cubicBezTo>
                      <a:pt x="10800" y="9677"/>
                      <a:pt x="5400" y="10577"/>
                      <a:pt x="0" y="10577"/>
                    </a:cubicBezTo>
                    <a:cubicBezTo>
                      <a:pt x="5400" y="10577"/>
                      <a:pt x="10800" y="11477"/>
                      <a:pt x="10800" y="12377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2"/>
              <p:cNvSpPr/>
              <p:nvPr/>
            </p:nvSpPr>
            <p:spPr>
              <a:xfrm>
                <a:off x="5038920" y="5132160"/>
                <a:ext cx="0" cy="4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13"/>
              <p:cNvSpPr/>
              <p:nvPr/>
            </p:nvSpPr>
            <p:spPr>
              <a:xfrm>
                <a:off x="6736320" y="5108400"/>
                <a:ext cx="81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w 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4"/>
              <p:cNvSpPr/>
              <p:nvPr/>
            </p:nvSpPr>
            <p:spPr>
              <a:xfrm flipH="1">
                <a:off x="7510320" y="4975200"/>
                <a:ext cx="228600" cy="20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5"/>
              <p:cNvSpPr/>
              <p:nvPr/>
            </p:nvSpPr>
            <p:spPr>
              <a:xfrm>
                <a:off x="4325400" y="5452920"/>
                <a:ext cx="720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yper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6"/>
              <p:cNvSpPr/>
              <p:nvPr/>
            </p:nvSpPr>
            <p:spPr>
              <a:xfrm>
                <a:off x="5572440" y="5449680"/>
                <a:ext cx="875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exc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17"/>
              <p:cNvSpPr/>
              <p:nvPr/>
            </p:nvSpPr>
            <p:spPr>
              <a:xfrm>
                <a:off x="7059960" y="5437080"/>
                <a:ext cx="875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exc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Rectangle 19"/>
            <p:cNvSpPr/>
            <p:nvPr/>
          </p:nvSpPr>
          <p:spPr>
            <a:xfrm>
              <a:off x="5848200" y="60958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04920" y="685440"/>
            <a:ext cx="85341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Tumor-Suppressor Ge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tations that inactivate tumor suppressor ge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similar effects as onco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6"/>
          <p:cNvGrpSpPr/>
          <p:nvPr/>
        </p:nvGrpSpPr>
        <p:grpSpPr>
          <a:xfrm>
            <a:off x="1518840" y="2957400"/>
            <a:ext cx="5959800" cy="3419640"/>
            <a:chOff x="1518840" y="2957400"/>
            <a:chExt cx="5959800" cy="3419640"/>
          </a:xfrm>
        </p:grpSpPr>
        <p:grpSp>
          <p:nvGrpSpPr>
            <p:cNvPr id="650" name="Group 14"/>
            <p:cNvGrpSpPr/>
            <p:nvPr/>
          </p:nvGrpSpPr>
          <p:grpSpPr>
            <a:xfrm>
              <a:off x="2702160" y="2957400"/>
              <a:ext cx="4776480" cy="3419640"/>
              <a:chOff x="2702160" y="2957400"/>
              <a:chExt cx="4776480" cy="3419640"/>
            </a:xfrm>
          </p:grpSpPr>
          <p:pic>
            <p:nvPicPr>
              <p:cNvPr id="651" name="Picture 5" descr="_x000c_11_16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2702160" y="3271680"/>
                <a:ext cx="4776480" cy="31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Text Box 6"/>
              <p:cNvSpPr/>
              <p:nvPr/>
            </p:nvSpPr>
            <p:spPr>
              <a:xfrm>
                <a:off x="2866680" y="2968560"/>
                <a:ext cx="1407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umor-suppressor 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7"/>
              <p:cNvSpPr/>
              <p:nvPr/>
            </p:nvSpPr>
            <p:spPr>
              <a:xfrm rot="5400000">
                <a:off x="3492720" y="2797920"/>
                <a:ext cx="154080" cy="88884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23040 h 888840"/>
                  <a:gd name="textAreaBottom" fmla="*/ 86580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8"/>
              <p:cNvSpPr/>
              <p:nvPr/>
            </p:nvSpPr>
            <p:spPr>
              <a:xfrm>
                <a:off x="5326560" y="2957400"/>
                <a:ext cx="1815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tated tumor-suppressor 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9"/>
              <p:cNvSpPr/>
              <p:nvPr/>
            </p:nvSpPr>
            <p:spPr>
              <a:xfrm rot="5400000">
                <a:off x="6117480" y="2794680"/>
                <a:ext cx="154080" cy="88920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23040 h 889200"/>
                  <a:gd name="textAreaBottom" fmla="*/ 866160 h 88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10"/>
              <p:cNvSpPr/>
              <p:nvPr/>
            </p:nvSpPr>
            <p:spPr>
              <a:xfrm>
                <a:off x="3817440" y="4108320"/>
                <a:ext cx="63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-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hibit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11"/>
              <p:cNvSpPr/>
              <p:nvPr/>
            </p:nvSpPr>
            <p:spPr>
              <a:xfrm>
                <a:off x="3820320" y="5227560"/>
                <a:ext cx="8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nder 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12"/>
              <p:cNvSpPr/>
              <p:nvPr/>
            </p:nvSpPr>
            <p:spPr>
              <a:xfrm>
                <a:off x="6438960" y="4111560"/>
                <a:ext cx="930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fective,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nfunction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13"/>
              <p:cNvSpPr/>
              <p:nvPr/>
            </p:nvSpPr>
            <p:spPr>
              <a:xfrm>
                <a:off x="6401880" y="522432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 division no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nder 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Text Box 15"/>
            <p:cNvSpPr/>
            <p:nvPr/>
          </p:nvSpPr>
          <p:spPr>
            <a:xfrm>
              <a:off x="1518840" y="59641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6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7 Oncogene proteins and faulty tumor-suppressor proteins can interfere with normal signal transduction path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31464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ogene 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stimulate signal transduction path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7"/>
          <p:cNvGrpSpPr/>
          <p:nvPr/>
        </p:nvGrpSpPr>
        <p:grpSpPr>
          <a:xfrm>
            <a:off x="2307960" y="2008080"/>
            <a:ext cx="4285080" cy="4443480"/>
            <a:chOff x="2307960" y="2008080"/>
            <a:chExt cx="4285080" cy="4443480"/>
          </a:xfrm>
        </p:grpSpPr>
        <p:grpSp>
          <p:nvGrpSpPr>
            <p:cNvPr id="666" name="Group 25"/>
            <p:cNvGrpSpPr/>
            <p:nvPr/>
          </p:nvGrpSpPr>
          <p:grpSpPr>
            <a:xfrm>
              <a:off x="3462480" y="2008080"/>
              <a:ext cx="3130560" cy="4443480"/>
              <a:chOff x="3462480" y="2008080"/>
              <a:chExt cx="3130560" cy="4443480"/>
            </a:xfrm>
          </p:grpSpPr>
          <p:pic>
            <p:nvPicPr>
              <p:cNvPr id="667" name="Picture 6" descr="_x000c_11_17a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3462480" y="2008080"/>
                <a:ext cx="3130560" cy="444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Line 7"/>
              <p:cNvSpPr/>
              <p:nvPr/>
            </p:nvSpPr>
            <p:spPr>
              <a:xfrm flipH="1">
                <a:off x="4457880" y="2284200"/>
                <a:ext cx="285840" cy="11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8"/>
              <p:cNvSpPr/>
              <p:nvPr/>
            </p:nvSpPr>
            <p:spPr>
              <a:xfrm>
                <a:off x="4044600" y="2165400"/>
                <a:ext cx="53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9"/>
              <p:cNvSpPr/>
              <p:nvPr/>
            </p:nvSpPr>
            <p:spPr>
              <a:xfrm>
                <a:off x="3593880" y="2655720"/>
                <a:ext cx="65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rget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10"/>
              <p:cNvSpPr/>
              <p:nvPr/>
            </p:nvSpPr>
            <p:spPr>
              <a:xfrm>
                <a:off x="5355360" y="2496960"/>
                <a:ext cx="59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ep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11"/>
              <p:cNvSpPr/>
              <p:nvPr/>
            </p:nvSpPr>
            <p:spPr>
              <a:xfrm>
                <a:off x="5662800" y="2849400"/>
                <a:ext cx="83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yperactive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lay 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roduct of</a:t>
                </a:r>
                <a:br>
                  <a:rPr sz="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ra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oncogene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ssues signal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 its ow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2"/>
              <p:cNvSpPr/>
              <p:nvPr/>
            </p:nvSpPr>
            <p:spPr>
              <a:xfrm flipV="1">
                <a:off x="4830840" y="2607840"/>
                <a:ext cx="574560" cy="21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3"/>
              <p:cNvSpPr/>
              <p:nvPr/>
            </p:nvSpPr>
            <p:spPr>
              <a:xfrm flipH="1">
                <a:off x="4335480" y="3068640"/>
                <a:ext cx="596880" cy="12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14"/>
              <p:cNvSpPr/>
              <p:nvPr/>
            </p:nvSpPr>
            <p:spPr>
              <a:xfrm>
                <a:off x="3678480" y="2962080"/>
                <a:ext cx="877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produc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ra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5"/>
              <p:cNvSpPr/>
              <p:nvPr/>
            </p:nvSpPr>
            <p:spPr>
              <a:xfrm flipH="1">
                <a:off x="4187520" y="3081240"/>
                <a:ext cx="793800" cy="42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6"/>
              <p:cNvSpPr/>
              <p:nvPr/>
            </p:nvSpPr>
            <p:spPr>
              <a:xfrm flipH="1" flipV="1">
                <a:off x="4190760" y="3494160"/>
                <a:ext cx="515880" cy="30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7"/>
              <p:cNvSpPr/>
              <p:nvPr/>
            </p:nvSpPr>
            <p:spPr>
              <a:xfrm flipH="1">
                <a:off x="4203360" y="3460680"/>
                <a:ext cx="412920" cy="4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18"/>
              <p:cNvSpPr/>
              <p:nvPr/>
            </p:nvSpPr>
            <p:spPr>
              <a:xfrm>
                <a:off x="3692880" y="3259080"/>
                <a:ext cx="54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19"/>
              <p:cNvSpPr/>
              <p:nvPr/>
            </p:nvSpPr>
            <p:spPr>
              <a:xfrm>
                <a:off x="3675960" y="4178160"/>
                <a:ext cx="105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 fact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ctiva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20"/>
              <p:cNvSpPr/>
              <p:nvPr/>
            </p:nvSpPr>
            <p:spPr>
              <a:xfrm>
                <a:off x="3870360" y="502128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21"/>
              <p:cNvSpPr/>
              <p:nvPr/>
            </p:nvSpPr>
            <p:spPr>
              <a:xfrm>
                <a:off x="3865680" y="5256000"/>
                <a:ext cx="54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22"/>
              <p:cNvSpPr/>
              <p:nvPr/>
            </p:nvSpPr>
            <p:spPr>
              <a:xfrm>
                <a:off x="4798800" y="5261040"/>
                <a:ext cx="77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23"/>
              <p:cNvSpPr/>
              <p:nvPr/>
            </p:nvSpPr>
            <p:spPr>
              <a:xfrm>
                <a:off x="4800960" y="5802120"/>
                <a:ext cx="68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24"/>
              <p:cNvSpPr/>
              <p:nvPr/>
            </p:nvSpPr>
            <p:spPr>
              <a:xfrm>
                <a:off x="4016520" y="5821200"/>
                <a:ext cx="7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hat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timulat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 Box 26"/>
            <p:cNvSpPr/>
            <p:nvPr/>
          </p:nvSpPr>
          <p:spPr>
            <a:xfrm>
              <a:off x="2307960" y="61038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umor-suppressor prote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inhibit signal transduction pathway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26"/>
          <p:cNvGrpSpPr/>
          <p:nvPr/>
        </p:nvGrpSpPr>
        <p:grpSpPr>
          <a:xfrm>
            <a:off x="2244240" y="2044800"/>
            <a:ext cx="4219920" cy="4387680"/>
            <a:chOff x="2244240" y="2044800"/>
            <a:chExt cx="4219920" cy="4387680"/>
          </a:xfrm>
        </p:grpSpPr>
        <p:grpSp>
          <p:nvGrpSpPr>
            <p:cNvPr id="690" name="Group 24"/>
            <p:cNvGrpSpPr/>
            <p:nvPr/>
          </p:nvGrpSpPr>
          <p:grpSpPr>
            <a:xfrm>
              <a:off x="3355920" y="2044800"/>
              <a:ext cx="3108240" cy="4387680"/>
              <a:chOff x="3355920" y="2044800"/>
              <a:chExt cx="3108240" cy="4387680"/>
            </a:xfrm>
          </p:grpSpPr>
          <p:pic>
            <p:nvPicPr>
              <p:cNvPr id="691" name="Picture 6" descr="_x000c_11_17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3355920" y="2044800"/>
                <a:ext cx="3108240" cy="43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Text Box 7"/>
              <p:cNvSpPr/>
              <p:nvPr/>
            </p:nvSpPr>
            <p:spPr>
              <a:xfrm>
                <a:off x="3457800" y="2224080"/>
                <a:ext cx="103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rowth-inhibiting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8"/>
              <p:cNvSpPr/>
              <p:nvPr/>
            </p:nvSpPr>
            <p:spPr>
              <a:xfrm>
                <a:off x="5094720" y="2496960"/>
                <a:ext cx="59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ep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9"/>
              <p:cNvSpPr/>
              <p:nvPr/>
            </p:nvSpPr>
            <p:spPr>
              <a:xfrm>
                <a:off x="4887360" y="3446280"/>
                <a:ext cx="1518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onfunctional transcription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roduct of faulty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p53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umor-suppressor gen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0"/>
              <p:cNvSpPr/>
              <p:nvPr/>
            </p:nvSpPr>
            <p:spPr>
              <a:xfrm flipV="1">
                <a:off x="4609800" y="2604600"/>
                <a:ext cx="536760" cy="18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11"/>
              <p:cNvSpPr/>
              <p:nvPr/>
            </p:nvSpPr>
            <p:spPr>
              <a:xfrm flipH="1">
                <a:off x="3973320" y="3082680"/>
                <a:ext cx="784080" cy="41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2"/>
              <p:cNvSpPr/>
              <p:nvPr/>
            </p:nvSpPr>
            <p:spPr>
              <a:xfrm flipH="1" flipV="1">
                <a:off x="3972960" y="3501720"/>
                <a:ext cx="514440" cy="28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3"/>
              <p:cNvSpPr/>
              <p:nvPr/>
            </p:nvSpPr>
            <p:spPr>
              <a:xfrm flipH="1">
                <a:off x="3993480" y="3459240"/>
                <a:ext cx="406440" cy="4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14"/>
              <p:cNvSpPr/>
              <p:nvPr/>
            </p:nvSpPr>
            <p:spPr>
              <a:xfrm>
                <a:off x="3476880" y="3297240"/>
                <a:ext cx="54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15"/>
              <p:cNvSpPr/>
              <p:nvPr/>
            </p:nvSpPr>
            <p:spPr>
              <a:xfrm>
                <a:off x="3424680" y="4132080"/>
                <a:ext cx="105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 fact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ctiva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16"/>
              <p:cNvSpPr/>
              <p:nvPr/>
            </p:nvSpPr>
            <p:spPr>
              <a:xfrm>
                <a:off x="4527000" y="5303880"/>
                <a:ext cx="77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17"/>
              <p:cNvSpPr/>
              <p:nvPr/>
            </p:nvSpPr>
            <p:spPr>
              <a:xfrm>
                <a:off x="4524480" y="5740200"/>
                <a:ext cx="68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18"/>
              <p:cNvSpPr/>
              <p:nvPr/>
            </p:nvSpPr>
            <p:spPr>
              <a:xfrm>
                <a:off x="3717720" y="5857920"/>
                <a:ext cx="7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hat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hibit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9"/>
              <p:cNvSpPr/>
              <p:nvPr/>
            </p:nvSpPr>
            <p:spPr>
              <a:xfrm flipH="1">
                <a:off x="4406400" y="2314440"/>
                <a:ext cx="12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20"/>
              <p:cNvSpPr/>
              <p:nvPr/>
            </p:nvSpPr>
            <p:spPr>
              <a:xfrm>
                <a:off x="5142960" y="3817800"/>
                <a:ext cx="8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nnot trigge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21"/>
              <p:cNvSpPr/>
              <p:nvPr/>
            </p:nvSpPr>
            <p:spPr>
              <a:xfrm>
                <a:off x="4874400" y="5856120"/>
                <a:ext cx="839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absen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t inhibi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22"/>
              <p:cNvSpPr/>
              <p:nvPr/>
            </p:nvSpPr>
            <p:spPr>
              <a:xfrm flipV="1">
                <a:off x="4582800" y="4249800"/>
                <a:ext cx="243000" cy="2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23"/>
              <p:cNvSpPr/>
              <p:nvPr/>
            </p:nvSpPr>
            <p:spPr>
              <a:xfrm>
                <a:off x="4784760" y="4132080"/>
                <a:ext cx="877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produc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p5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25"/>
            <p:cNvSpPr/>
            <p:nvPr/>
          </p:nvSpPr>
          <p:spPr>
            <a:xfrm>
              <a:off x="2244240" y="60786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0080" y="7045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What is the purpose of gene regulation?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ntrol of gene expression makes it possible for cells to produce specific kinds of proteins when and where they are need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urning on and off of transcription is the main way that gene expression is regulated in all organis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8 Multiple genetic changes underlie the development of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s result from a series of genetic changes in a cell line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n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evelops in a stepwise fash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_x000c_11_18a_U.jpg                                                   0051B389_x0003_203                            BE741D4F:"/>
          <p:cNvPicPr/>
          <p:nvPr/>
        </p:nvPicPr>
        <p:blipFill>
          <a:blip r:embed="rId1"/>
          <a:stretch/>
        </p:blipFill>
        <p:spPr>
          <a:xfrm>
            <a:off x="1246320" y="2467080"/>
            <a:ext cx="7313400" cy="2504880"/>
          </a:xfrm>
          <a:prstGeom prst="rect">
            <a:avLst/>
          </a:prstGeom>
          <a:ln w="0">
            <a:noFill/>
          </a:ln>
        </p:spPr>
      </p:pic>
      <p:sp>
        <p:nvSpPr>
          <p:cNvPr id="715" name="Line 7"/>
          <p:cNvSpPr/>
          <p:nvPr/>
        </p:nvSpPr>
        <p:spPr>
          <a:xfrm flipV="1">
            <a:off x="3745080" y="3065040"/>
            <a:ext cx="31428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545280" y="2793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n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493560" y="481824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ul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493560" y="539892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26"/>
          <p:cNvGrpSpPr/>
          <p:nvPr/>
        </p:nvGrpSpPr>
        <p:grpSpPr>
          <a:xfrm>
            <a:off x="1609920" y="4476600"/>
            <a:ext cx="1095120" cy="1442520"/>
            <a:chOff x="1609920" y="4476600"/>
            <a:chExt cx="1095120" cy="1442520"/>
          </a:xfrm>
        </p:grpSpPr>
        <p:grpSp>
          <p:nvGrpSpPr>
            <p:cNvPr id="720" name="Group 23"/>
            <p:cNvGrpSpPr/>
            <p:nvPr/>
          </p:nvGrpSpPr>
          <p:grpSpPr>
            <a:xfrm>
              <a:off x="1609920" y="4476600"/>
              <a:ext cx="1095120" cy="861840"/>
              <a:chOff x="1609920" y="4476600"/>
              <a:chExt cx="1095120" cy="861840"/>
            </a:xfrm>
          </p:grpSpPr>
          <p:sp>
            <p:nvSpPr>
              <p:cNvPr id="721" name="Text Box 9"/>
              <p:cNvSpPr/>
              <p:nvPr/>
            </p:nvSpPr>
            <p:spPr>
              <a:xfrm>
                <a:off x="1982880" y="4476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13"/>
              <p:cNvSpPr/>
              <p:nvPr/>
            </p:nvSpPr>
            <p:spPr>
              <a:xfrm>
                <a:off x="1609920" y="4818240"/>
                <a:ext cx="109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 Box 17"/>
            <p:cNvSpPr/>
            <p:nvPr/>
          </p:nvSpPr>
          <p:spPr>
            <a:xfrm>
              <a:off x="1610280" y="539892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coge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27"/>
          <p:cNvGrpSpPr/>
          <p:nvPr/>
        </p:nvGrpSpPr>
        <p:grpSpPr>
          <a:xfrm>
            <a:off x="3714840" y="4473720"/>
            <a:ext cx="1809720" cy="1440720"/>
            <a:chOff x="3714840" y="4473720"/>
            <a:chExt cx="1809720" cy="1440720"/>
          </a:xfrm>
        </p:grpSpPr>
        <p:grpSp>
          <p:nvGrpSpPr>
            <p:cNvPr id="725" name="Group 24"/>
            <p:cNvGrpSpPr/>
            <p:nvPr/>
          </p:nvGrpSpPr>
          <p:grpSpPr>
            <a:xfrm>
              <a:off x="3724200" y="4473720"/>
              <a:ext cx="1463760" cy="656280"/>
              <a:chOff x="3724200" y="4473720"/>
              <a:chExt cx="1463760" cy="656280"/>
            </a:xfrm>
          </p:grpSpPr>
          <p:sp>
            <p:nvSpPr>
              <p:cNvPr id="726" name="Text Box 10"/>
              <p:cNvSpPr/>
              <p:nvPr/>
            </p:nvSpPr>
            <p:spPr>
              <a:xfrm>
                <a:off x="4341960" y="4473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14"/>
              <p:cNvSpPr/>
              <p:nvPr/>
            </p:nvSpPr>
            <p:spPr>
              <a:xfrm>
                <a:off x="3724200" y="4822920"/>
                <a:ext cx="1463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th of poly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Text Box 18"/>
            <p:cNvSpPr/>
            <p:nvPr/>
          </p:nvSpPr>
          <p:spPr>
            <a:xfrm>
              <a:off x="3714840" y="5394240"/>
              <a:ext cx="180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mor-suppress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 in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28"/>
          <p:cNvGrpSpPr/>
          <p:nvPr/>
        </p:nvGrpSpPr>
        <p:grpSpPr>
          <a:xfrm>
            <a:off x="6441120" y="4486320"/>
            <a:ext cx="1778040" cy="1641240"/>
            <a:chOff x="6441120" y="4486320"/>
            <a:chExt cx="1778040" cy="1641240"/>
          </a:xfrm>
        </p:grpSpPr>
        <p:grpSp>
          <p:nvGrpSpPr>
            <p:cNvPr id="730" name="Group 25"/>
            <p:cNvGrpSpPr/>
            <p:nvPr/>
          </p:nvGrpSpPr>
          <p:grpSpPr>
            <a:xfrm>
              <a:off x="6441120" y="4486320"/>
              <a:ext cx="1778040" cy="856800"/>
              <a:chOff x="6441120" y="4486320"/>
              <a:chExt cx="1778040" cy="856800"/>
            </a:xfrm>
          </p:grpSpPr>
          <p:sp>
            <p:nvSpPr>
              <p:cNvPr id="731" name="Text Box 11"/>
              <p:cNvSpPr/>
              <p:nvPr/>
            </p:nvSpPr>
            <p:spPr>
              <a:xfrm>
                <a:off x="7101000" y="4486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15"/>
              <p:cNvSpPr/>
              <p:nvPr/>
            </p:nvSpPr>
            <p:spPr>
              <a:xfrm>
                <a:off x="6441120" y="4822920"/>
                <a:ext cx="177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th of malignan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mor (carcinoma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19"/>
            <p:cNvSpPr/>
            <p:nvPr/>
          </p:nvSpPr>
          <p:spPr>
            <a:xfrm>
              <a:off x="6441120" y="5394240"/>
              <a:ext cx="1511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ond tumor-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pressor ge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Text Box 20"/>
          <p:cNvSpPr/>
          <p:nvPr/>
        </p:nvSpPr>
        <p:spPr>
          <a:xfrm>
            <a:off x="3504960" y="59896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ion of mu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lead to canc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9"/>
          <p:cNvGrpSpPr/>
          <p:nvPr/>
        </p:nvGrpSpPr>
        <p:grpSpPr>
          <a:xfrm>
            <a:off x="882720" y="2386080"/>
            <a:ext cx="7313400" cy="3651480"/>
            <a:chOff x="882720" y="2386080"/>
            <a:chExt cx="7313400" cy="3651480"/>
          </a:xfrm>
        </p:grpSpPr>
        <p:grpSp>
          <p:nvGrpSpPr>
            <p:cNvPr id="738" name="Group 5"/>
            <p:cNvGrpSpPr/>
            <p:nvPr/>
          </p:nvGrpSpPr>
          <p:grpSpPr>
            <a:xfrm>
              <a:off x="882720" y="2386080"/>
              <a:ext cx="7313400" cy="3501720"/>
              <a:chOff x="882720" y="2386080"/>
              <a:chExt cx="7313400" cy="3501720"/>
            </a:xfrm>
          </p:grpSpPr>
          <p:pic>
            <p:nvPicPr>
              <p:cNvPr id="739" name="Picture 6" descr="_x000c_11_18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882720" y="2386080"/>
                <a:ext cx="7313400" cy="312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7"/>
              <p:cNvSpPr/>
              <p:nvPr/>
            </p:nvSpPr>
            <p:spPr>
              <a:xfrm>
                <a:off x="944640" y="3279960"/>
                <a:ext cx="150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8"/>
              <p:cNvSpPr/>
              <p:nvPr/>
            </p:nvSpPr>
            <p:spPr>
              <a:xfrm>
                <a:off x="2595600" y="3576600"/>
                <a:ext cx="95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9"/>
              <p:cNvSpPr/>
              <p:nvPr/>
            </p:nvSpPr>
            <p:spPr>
              <a:xfrm>
                <a:off x="2928600" y="3291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0"/>
              <p:cNvSpPr/>
              <p:nvPr/>
            </p:nvSpPr>
            <p:spPr>
              <a:xfrm>
                <a:off x="4400280" y="3294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1"/>
              <p:cNvSpPr/>
              <p:nvPr/>
            </p:nvSpPr>
            <p:spPr>
              <a:xfrm>
                <a:off x="5924160" y="3301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2"/>
              <p:cNvSpPr/>
              <p:nvPr/>
            </p:nvSpPr>
            <p:spPr>
              <a:xfrm>
                <a:off x="7354440" y="3294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3"/>
              <p:cNvSpPr/>
              <p:nvPr/>
            </p:nvSpPr>
            <p:spPr>
              <a:xfrm>
                <a:off x="4038120" y="357336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14"/>
              <p:cNvSpPr/>
              <p:nvPr/>
            </p:nvSpPr>
            <p:spPr>
              <a:xfrm>
                <a:off x="5570280" y="358164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5"/>
              <p:cNvSpPr/>
              <p:nvPr/>
            </p:nvSpPr>
            <p:spPr>
              <a:xfrm>
                <a:off x="7014960" y="358164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Text Box 16"/>
              <p:cNvSpPr/>
              <p:nvPr/>
            </p:nvSpPr>
            <p:spPr>
              <a:xfrm>
                <a:off x="1223640" y="5303880"/>
                <a:ext cx="83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 Box 17"/>
              <p:cNvSpPr/>
              <p:nvPr/>
            </p:nvSpPr>
            <p:spPr>
              <a:xfrm>
                <a:off x="6980760" y="5307120"/>
                <a:ext cx="1061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ligna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8"/>
            <p:cNvSpPr/>
            <p:nvPr/>
          </p:nvSpPr>
          <p:spPr>
            <a:xfrm>
              <a:off x="3769920" y="57610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ALKING ABOUT SCIENCE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9 Mary-Claire King discusses mutations that cause breast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earchers have gained insight into the genetic basis of breast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y studying families in which a disease-predisposing mutation is inherite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4447800" y="3971880"/>
            <a:ext cx="4172400" cy="2490840"/>
            <a:chOff x="4447800" y="3971880"/>
            <a:chExt cx="4172400" cy="2490840"/>
          </a:xfrm>
        </p:grpSpPr>
        <p:pic>
          <p:nvPicPr>
            <p:cNvPr id="756" name="Picture 5" descr="_x000b_11_19_U.jpg                                                    0051B358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5548320" y="3971880"/>
              <a:ext cx="307188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6"/>
            <p:cNvSpPr/>
            <p:nvPr/>
          </p:nvSpPr>
          <p:spPr>
            <a:xfrm>
              <a:off x="4447800" y="61657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20 Avoiding carcinogens can reduce the risk of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ucing exposure to carcinogens (which induce cancer-causing muta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making other lifestyle choices can help reduce cancer ris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 in the United St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"/>
          <p:cNvGrpSpPr/>
          <p:nvPr/>
        </p:nvGrpSpPr>
        <p:grpSpPr>
          <a:xfrm>
            <a:off x="1926360" y="1397160"/>
            <a:ext cx="5388480" cy="5033880"/>
            <a:chOff x="1926360" y="1397160"/>
            <a:chExt cx="5388480" cy="5033880"/>
          </a:xfrm>
        </p:grpSpPr>
        <p:pic>
          <p:nvPicPr>
            <p:cNvPr id="764" name="Picture 5" descr="_x000b_11_20_T.jpg                                                    0051B36C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758680" y="1397160"/>
              <a:ext cx="4556160" cy="50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6"/>
            <p:cNvSpPr/>
            <p:nvPr/>
          </p:nvSpPr>
          <p:spPr>
            <a:xfrm>
              <a:off x="1926360" y="598968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1.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28440" y="685800"/>
            <a:ext cx="791028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Ope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rokaryotes, genes for related 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often controlled together in units called oper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ulatory proteins bind to control sequences in the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urn operons on or off in response to environmental chan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7" name="Group 35"/>
          <p:cNvGrpSpPr/>
          <p:nvPr/>
        </p:nvGrpSpPr>
        <p:grpSpPr>
          <a:xfrm>
            <a:off x="355680" y="254160"/>
            <a:ext cx="8458200" cy="6161040"/>
            <a:chOff x="355680" y="254160"/>
            <a:chExt cx="8458200" cy="6161040"/>
          </a:xfrm>
        </p:grpSpPr>
        <p:grpSp>
          <p:nvGrpSpPr>
            <p:cNvPr id="228" name="Group 34"/>
            <p:cNvGrpSpPr/>
            <p:nvPr/>
          </p:nvGrpSpPr>
          <p:grpSpPr>
            <a:xfrm>
              <a:off x="1709640" y="254160"/>
              <a:ext cx="7104240" cy="6135120"/>
              <a:chOff x="1709640" y="254160"/>
              <a:chExt cx="7104240" cy="6135120"/>
            </a:xfrm>
          </p:grpSpPr>
          <p:sp>
            <p:nvSpPr>
              <p:cNvPr id="229" name="FlagCount" hidden="1"/>
              <p:cNvSpPr/>
              <p:nvPr/>
            </p:nvSpPr>
            <p:spPr>
              <a:xfrm>
                <a:off x="8432640" y="254160"/>
                <a:ext cx="381240" cy="317520"/>
              </a:xfrm>
              <a:prstGeom prst="wedgeRoundRectCallout">
                <a:avLst>
                  <a:gd name="adj1" fmla="val -43518"/>
                  <a:gd name="adj2" fmla="val 70000"/>
                  <a:gd name="adj3" fmla="val 16667"/>
                </a:avLst>
              </a:prstGeom>
              <a:solidFill>
                <a:srgbClr val="53548a">
                  <a:alpha val="25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Picture 6" descr="_x000c_11_01b_U.jpg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03720" y="3232080"/>
                <a:ext cx="3423960" cy="28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>
                <a:off x="2968560" y="350352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8"/>
              <p:cNvSpPr/>
              <p:nvPr/>
            </p:nvSpPr>
            <p:spPr>
              <a:xfrm>
                <a:off x="2946960" y="381492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9"/>
              <p:cNvSpPr/>
              <p:nvPr/>
            </p:nvSpPr>
            <p:spPr>
              <a:xfrm>
                <a:off x="2962080" y="497196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0"/>
              <p:cNvSpPr/>
              <p:nvPr/>
            </p:nvSpPr>
            <p:spPr>
              <a:xfrm>
                <a:off x="2937600" y="415764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1"/>
              <p:cNvSpPr/>
              <p:nvPr/>
            </p:nvSpPr>
            <p:spPr>
              <a:xfrm>
                <a:off x="2945520" y="528480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"/>
              <p:cNvSpPr/>
              <p:nvPr/>
            </p:nvSpPr>
            <p:spPr>
              <a:xfrm>
                <a:off x="2939040" y="561672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3"/>
              <p:cNvSpPr/>
              <p:nvPr/>
            </p:nvSpPr>
            <p:spPr>
              <a:xfrm>
                <a:off x="2937240" y="5938920"/>
                <a:ext cx="538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ctos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4"/>
              <p:cNvSpPr/>
              <p:nvPr/>
            </p:nvSpPr>
            <p:spPr>
              <a:xfrm>
                <a:off x="4179240" y="3151080"/>
                <a:ext cx="1029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moter Ope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5"/>
              <p:cNvSpPr/>
              <p:nvPr/>
            </p:nvSpPr>
            <p:spPr>
              <a:xfrm>
                <a:off x="5232960" y="3166920"/>
                <a:ext cx="1305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ctose-utilization gen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6"/>
              <p:cNvSpPr/>
              <p:nvPr/>
            </p:nvSpPr>
            <p:spPr>
              <a:xfrm rot="16612200">
                <a:off x="5646240" y="2695320"/>
                <a:ext cx="114480" cy="1419120"/>
              </a:xfrm>
              <a:custGeom>
                <a:avLst/>
                <a:gdLst>
                  <a:gd name="textAreaLeft" fmla="*/ 0 w 114480"/>
                  <a:gd name="textAreaRight" fmla="*/ 41400 w 114480"/>
                  <a:gd name="textAreaTop" fmla="*/ 7560 h 1419120"/>
                  <a:gd name="textAreaBottom" fmla="*/ 1411560 h 141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88"/>
                      <a:pt x="10800" y="375"/>
                    </a:cubicBezTo>
                    <a:lnTo>
                      <a:pt x="10800" y="10425"/>
                    </a:lnTo>
                    <a:cubicBezTo>
                      <a:pt x="10800" y="10613"/>
                      <a:pt x="16200" y="10800"/>
                      <a:pt x="21600" y="10800"/>
                    </a:cubicBezTo>
                    <a:cubicBezTo>
                      <a:pt x="16200" y="10800"/>
                      <a:pt x="10800" y="10988"/>
                      <a:pt x="10800" y="11175"/>
                    </a:cubicBezTo>
                    <a:lnTo>
                      <a:pt x="10800" y="21225"/>
                    </a:lnTo>
                    <a:cubicBezTo>
                      <a:pt x="10800" y="21413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7"/>
              <p:cNvSpPr/>
              <p:nvPr/>
            </p:nvSpPr>
            <p:spPr>
              <a:xfrm>
                <a:off x="4091040" y="402912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5542920" y="3983040"/>
                <a:ext cx="95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NA polymeras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nnot attach to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9"/>
              <p:cNvSpPr/>
              <p:nvPr/>
            </p:nvSpPr>
            <p:spPr>
              <a:xfrm>
                <a:off x="5321160" y="4003560"/>
                <a:ext cx="27324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20"/>
              <p:cNvSpPr/>
              <p:nvPr/>
            </p:nvSpPr>
            <p:spPr>
              <a:xfrm>
                <a:off x="4394880" y="4964040"/>
                <a:ext cx="101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NA polymeras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und to 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1"/>
              <p:cNvSpPr/>
              <p:nvPr/>
            </p:nvSpPr>
            <p:spPr>
              <a:xfrm>
                <a:off x="4357800" y="4957920"/>
                <a:ext cx="9360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22"/>
              <p:cNvSpPr/>
              <p:nvPr/>
            </p:nvSpPr>
            <p:spPr>
              <a:xfrm>
                <a:off x="4086360" y="580860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3"/>
              <p:cNvSpPr/>
              <p:nvPr/>
            </p:nvSpPr>
            <p:spPr>
              <a:xfrm>
                <a:off x="5066280" y="5857920"/>
                <a:ext cx="1559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zymes for lactose utiliz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4"/>
              <p:cNvSpPr/>
              <p:nvPr/>
            </p:nvSpPr>
            <p:spPr>
              <a:xfrm>
                <a:off x="5008320" y="29718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25"/>
              <p:cNvSpPr/>
              <p:nvPr/>
            </p:nvSpPr>
            <p:spPr>
              <a:xfrm>
                <a:off x="1709640" y="4429080"/>
                <a:ext cx="180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peron turned of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lactose absent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6"/>
              <p:cNvSpPr/>
              <p:nvPr/>
            </p:nvSpPr>
            <p:spPr>
              <a:xfrm>
                <a:off x="1712520" y="6173640"/>
                <a:ext cx="2436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peron turned 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lactose inactivates repressor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7"/>
              <p:cNvSpPr/>
              <p:nvPr/>
            </p:nvSpPr>
            <p:spPr>
              <a:xfrm>
                <a:off x="3438000" y="3112920"/>
                <a:ext cx="67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gulator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28"/>
              <p:cNvSpPr/>
              <p:nvPr/>
            </p:nvSpPr>
            <p:spPr>
              <a:xfrm rot="16200000">
                <a:off x="5236920" y="2136240"/>
                <a:ext cx="74520" cy="2116080"/>
              </a:xfrm>
              <a:custGeom>
                <a:avLst/>
                <a:gdLst>
                  <a:gd name="textAreaLeft" fmla="*/ 0 w 74520"/>
                  <a:gd name="textAreaRight" fmla="*/ 27000 w 74520"/>
                  <a:gd name="textAreaTop" fmla="*/ 11160 h 2116080"/>
                  <a:gd name="textAreaBottom" fmla="*/ 2104920 h 211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88"/>
                      <a:pt x="10800" y="375"/>
                    </a:cubicBezTo>
                    <a:lnTo>
                      <a:pt x="10800" y="10425"/>
                    </a:lnTo>
                    <a:cubicBezTo>
                      <a:pt x="10800" y="10613"/>
                      <a:pt x="16200" y="10800"/>
                      <a:pt x="21600" y="10800"/>
                    </a:cubicBezTo>
                    <a:cubicBezTo>
                      <a:pt x="16200" y="10800"/>
                      <a:pt x="10800" y="10988"/>
                      <a:pt x="10800" y="11175"/>
                    </a:cubicBezTo>
                    <a:lnTo>
                      <a:pt x="10800" y="21225"/>
                    </a:lnTo>
                    <a:cubicBezTo>
                      <a:pt x="10800" y="21413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30"/>
            <p:cNvSpPr/>
            <p:nvPr/>
          </p:nvSpPr>
          <p:spPr>
            <a:xfrm>
              <a:off x="355680" y="6138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ther Kinds of Oper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r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pe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similar to th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lac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operon, but functions somewhat differentl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1070280" y="3456000"/>
            <a:ext cx="7041960" cy="2895840"/>
            <a:chOff x="1070280" y="3456000"/>
            <a:chExt cx="7041960" cy="2895840"/>
          </a:xfrm>
        </p:grpSpPr>
        <p:grpSp>
          <p:nvGrpSpPr>
            <p:cNvPr id="257" name="Group 21"/>
            <p:cNvGrpSpPr/>
            <p:nvPr/>
          </p:nvGrpSpPr>
          <p:grpSpPr>
            <a:xfrm>
              <a:off x="2136600" y="3456000"/>
              <a:ext cx="5975640" cy="2895840"/>
              <a:chOff x="2136600" y="3456000"/>
              <a:chExt cx="5975640" cy="2895840"/>
            </a:xfrm>
          </p:grpSpPr>
          <p:pic>
            <p:nvPicPr>
              <p:cNvPr id="258" name="Picture 6" descr="_x000c_11_01c_U.jpg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506680" y="3549600"/>
                <a:ext cx="560556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Rectangle 7"/>
              <p:cNvSpPr/>
              <p:nvPr/>
            </p:nvSpPr>
            <p:spPr>
              <a:xfrm>
                <a:off x="2616120" y="3456000"/>
                <a:ext cx="89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mo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8"/>
              <p:cNvSpPr/>
              <p:nvPr/>
            </p:nvSpPr>
            <p:spPr>
              <a:xfrm>
                <a:off x="2136600" y="3786120"/>
                <a:ext cx="50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2643120" y="420048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0"/>
              <p:cNvSpPr/>
              <p:nvPr/>
            </p:nvSpPr>
            <p:spPr>
              <a:xfrm>
                <a:off x="2571840" y="530712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1"/>
              <p:cNvSpPr/>
              <p:nvPr/>
            </p:nvSpPr>
            <p:spPr>
              <a:xfrm>
                <a:off x="4136760" y="5742000"/>
                <a:ext cx="71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cto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3917880" y="5519880"/>
                <a:ext cx="26352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3"/>
              <p:cNvSpPr/>
              <p:nvPr/>
            </p:nvSpPr>
            <p:spPr>
              <a:xfrm>
                <a:off x="5621400" y="422928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4"/>
              <p:cNvSpPr/>
              <p:nvPr/>
            </p:nvSpPr>
            <p:spPr>
              <a:xfrm>
                <a:off x="7142760" y="4627440"/>
                <a:ext cx="95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yptoph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5"/>
              <p:cNvSpPr/>
              <p:nvPr/>
            </p:nvSpPr>
            <p:spPr>
              <a:xfrm>
                <a:off x="6878880" y="4349880"/>
                <a:ext cx="29988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6"/>
              <p:cNvSpPr/>
              <p:nvPr/>
            </p:nvSpPr>
            <p:spPr>
              <a:xfrm>
                <a:off x="5410440" y="522144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7"/>
              <p:cNvSpPr/>
              <p:nvPr/>
            </p:nvSpPr>
            <p:spPr>
              <a:xfrm>
                <a:off x="3309480" y="6060960"/>
                <a:ext cx="95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lac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8"/>
              <p:cNvSpPr/>
              <p:nvPr/>
            </p:nvSpPr>
            <p:spPr>
              <a:xfrm>
                <a:off x="6319080" y="6075360"/>
                <a:ext cx="94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trp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9"/>
              <p:cNvSpPr/>
              <p:nvPr/>
            </p:nvSpPr>
            <p:spPr>
              <a:xfrm>
                <a:off x="3459240" y="3456000"/>
                <a:ext cx="83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20"/>
              <p:cNvSpPr/>
              <p:nvPr/>
            </p:nvSpPr>
            <p:spPr>
              <a:xfrm>
                <a:off x="4602240" y="3463920"/>
                <a:ext cx="73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1070280" y="60278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85320" y="685800"/>
            <a:ext cx="785340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2 Differentiation yields a variety of cell types, each expressing a different combination of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3247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does the term differentiation mean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3247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ecome specialized in structure a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3247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ulticellular 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3247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ells become specialized as a zygote develops into a mature 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4T12:52:04Z</cp:lastPrinted>
  <dcterms:modified xsi:type="dcterms:W3CDTF">2011-02-20T20:10:00Z</dcterms:modified>
  <cp:revision>547</cp:revision>
  <dc:subject/>
  <dc:title>Slide 1</dc:title>
</cp:coreProperties>
</file>